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47.png" ContentType="image/png"/>
  <Override PartName="/ppt/media/image10.png" ContentType="image/png"/>
  <Override PartName="/ppt/media/image14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19.png" ContentType="image/png"/>
  <Override PartName="/ppt/media/image6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28.png" ContentType="image/png"/>
  <Override PartName="/ppt/media/image16.png" ContentType="image/png"/>
  <Override PartName="/ppt/media/image4.png" ContentType="image/png"/>
  <Override PartName="/ppt/media/image7.jpeg" ContentType="image/jpeg"/>
  <Override PartName="/ppt/media/image65.png" ContentType="image/png"/>
  <Override PartName="/ppt/media/image27.png" ContentType="image/png"/>
  <Override PartName="/ppt/media/image64.png" ContentType="image/png"/>
  <Override PartName="/ppt/media/image63.png" ContentType="image/png"/>
  <Override PartName="/ppt/media/image62.png" ContentType="image/png"/>
  <Override PartName="/ppt/media/image25.png" ContentType="image/png"/>
  <Override PartName="/ppt/media/image60.png" ContentType="image/png"/>
  <Override PartName="/ppt/media/image23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6.png" ContentType="image/png"/>
  <Override PartName="/ppt/media/image8.jpeg" ContentType="image/jpeg"/>
  <Override PartName="/ppt/media/image29.png" ContentType="image/png"/>
  <Override PartName="/ppt/media/image18.png" ContentType="image/png"/>
  <Override PartName="/ppt/media/image6.png" ContentType="image/png"/>
  <Override PartName="/ppt/media/image11.png" ContentType="image/png"/>
  <Override PartName="/ppt/media/image36.png" ContentType="image/png"/>
  <Override PartName="/ppt/media/image9.jpeg" ContentType="image/jpeg"/>
  <Override PartName="/ppt/media/image48.png" ContentType="image/png"/>
  <Override PartName="/ppt/media/image12.png" ContentType="image/png"/>
  <Override PartName="/ppt/media/image49.png" ContentType="image/png"/>
  <Override PartName="/ppt/media/image13.png" ContentType="image/png"/>
  <Override PartName="/ppt/media/image2.jpeg" ContentType="image/jpeg"/>
  <Override PartName="/ppt/media/image31.png" ContentType="image/png"/>
  <Override PartName="/ppt/media/image32.png" ContentType="image/png"/>
  <Override PartName="/ppt/media/image37.wmf" ContentType="image/x-wmf"/>
  <Override PartName="/ppt/media/image38.wmf" ContentType="image/x-wmf"/>
  <Override PartName="/ppt/media/image40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wmf" ContentType="image/x-wmf"/>
  <Override PartName="/ppt/media/image44.png" ContentType="image/png"/>
  <Override PartName="/ppt/media/image45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B78E6-0FEA-4176-A2BB-99F64AEF97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EA2A8-9952-409E-B3F1-4B2228A8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1D2A5-6E72-44B9-A00C-2079CC6E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5D3C8-21AE-45B3-BC1D-E8E18C03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D2A65-80E5-457C-9690-81C4BC0EC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E2629-D38C-4EA4-94B0-368777DBD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8F83D-8E22-4777-B34B-CF3A5165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21F32-98CD-4F73-A57B-4D037104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C8BE7-1B57-4DF0-BD38-F349E1B5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50D43-4D9E-42AA-8431-0FF58276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AC832-FC6B-4BEE-9752-F9D9CA0E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025EE-02D2-440B-A9B6-7B5CDCCCCA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D559A-416C-452C-8B7A-C0A3373376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64B38C-9B4D-49C7-800C-9ED8BB4C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9F0073-CEFF-46B1-9AE8-C5448F2D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1A0D7-1EC7-4B9E-AD17-5E87AD1E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01031-1C87-4F85-8716-A2F73D454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662158-22F2-47C6-BE4F-8A6099A4E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AD566-72D5-4903-8E82-881596DE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8543CC-D96E-4950-94F2-446A4541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535EBF-6F9F-4B00-8961-8F508858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1209E-9644-4579-A467-BD097EA2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58BC2A-A60D-483C-B23A-440ABE40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702BA-1DBD-4EB8-AA83-EC6467E1FD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2173-SolidWorks-bkg"/>
          <p:cNvPicPr/>
          <p:nvPr/>
        </p:nvPicPr>
        <p:blipFill>
          <a:blip r:embed="rId2"/>
          <a:stretch/>
        </p:blipFill>
        <p:spPr>
          <a:xfrm>
            <a:off x="324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1" name="Text Box 3"/>
          <p:cNvSpPr/>
          <p:nvPr/>
        </p:nvSpPr>
        <p:spPr>
          <a:xfrm>
            <a:off x="8220600" y="63975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FC48-D0DD-4AC9-9A94-2D795259B5BC}" type="slidenum">
              <a:rPr b="1" lang="en-US" sz="14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1600" y="108000"/>
            <a:ext cx="75866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01240" y="1296720"/>
            <a:ext cx="865044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635040" indent="-28584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97776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32084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166356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1663560" indent="-228600">
              <a:lnSpc>
                <a:spcPct val="95000"/>
              </a:lnSpc>
              <a:spcBef>
                <a:spcPts val="15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1663560" indent="-228600">
              <a:lnSpc>
                <a:spcPct val="95000"/>
              </a:lnSpc>
              <a:spcBef>
                <a:spcPts val="15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" name="Picture 6" descr="swlogcol"/>
          <p:cNvPicPr/>
          <p:nvPr/>
        </p:nvPicPr>
        <p:blipFill>
          <a:blip r:embed="rId3"/>
          <a:stretch/>
        </p:blipFill>
        <p:spPr>
          <a:xfrm>
            <a:off x="7983360" y="306360"/>
            <a:ext cx="102420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1290-2F7F-4E78-8BC1-7008F4221AB5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17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419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20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421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423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9"/>
          <p:cNvSpPr/>
          <p:nvPr/>
        </p:nvSpPr>
        <p:spPr>
          <a:xfrm>
            <a:off x="324000" y="231840"/>
            <a:ext cx="647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5" name="Espace réservé de la date 3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E054-9858-4299-8DAE-971E98EB7AAD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65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467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68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469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471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472" name="Espace réservé de la date 3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957C-CCBC-4E03-9236-BF0480E62106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12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514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15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516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518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519" name="Espace réservé de la date 3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A6CD-C949-41C0-8CCD-5DBDA438CB1A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59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561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62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563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565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9"/>
          <p:cNvSpPr/>
          <p:nvPr/>
        </p:nvSpPr>
        <p:spPr>
          <a:xfrm>
            <a:off x="250920" y="231840"/>
            <a:ext cx="6490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7" name="Espace réservé de la date 3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0EF1-E788-4565-83DC-3108717D6DCF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07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609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610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611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613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F3FC-A344-4DA8-9C28-902D55B9B9C3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53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655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656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657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659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D91A-89AF-4424-8B29-9796D8DA6BDF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99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701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702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703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705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1"/>
          </p:nvPr>
        </p:nvSpPr>
        <p:spPr>
          <a:xfrm>
            <a:off x="5410080" y="6552720"/>
            <a:ext cx="674640" cy="2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sldNum" idx="2"/>
          </p:nvPr>
        </p:nvSpPr>
        <p:spPr>
          <a:xfrm>
            <a:off x="6095520" y="6575040"/>
            <a:ext cx="47484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E698-228C-4B25-9B51-5D712FE374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9E95-DC0B-4303-AB51-2995336E1924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47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749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750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751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753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5402-8E98-45C9-9132-5DFD5254259A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93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795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796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797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799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dt" idx="3"/>
          </p:nvPr>
        </p:nvSpPr>
        <p:spPr>
          <a:xfrm>
            <a:off x="5410080" y="6552720"/>
            <a:ext cx="674640" cy="2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b575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sldNum" idx="4"/>
          </p:nvPr>
        </p:nvSpPr>
        <p:spPr>
          <a:xfrm>
            <a:off x="6095520" y="6575040"/>
            <a:ext cx="47484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b575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D689-05C0-4622-9936-E3E18AFE64A2}" type="slidenum">
              <a:rPr b="0" lang="en-US" sz="2400" spc="-1" strike="noStrike">
                <a:solidFill>
                  <a:srgbClr val="4b575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6EA6-4C23-4916-B954-CC02AB03DAA0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4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46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7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48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50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12173-SolidWorks-bkg"/>
          <p:cNvPicPr/>
          <p:nvPr/>
        </p:nvPicPr>
        <p:blipFill>
          <a:blip r:embed="rId2"/>
          <a:stretch/>
        </p:blipFill>
        <p:spPr>
          <a:xfrm>
            <a:off x="324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8220600" y="63975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6281-9FA1-40DF-93E0-AC9D539C28C9}" type="slidenum">
              <a:rPr b="1" lang="en-US" sz="14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9" name="Picture 6" descr="swlogcol"/>
          <p:cNvPicPr/>
          <p:nvPr/>
        </p:nvPicPr>
        <p:blipFill>
          <a:blip r:embed="rId3"/>
          <a:stretch/>
        </p:blipFill>
        <p:spPr>
          <a:xfrm>
            <a:off x="7983360" y="306360"/>
            <a:ext cx="1024200" cy="55872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2"/>
          <p:cNvGrpSpPr/>
          <p:nvPr/>
        </p:nvGrpSpPr>
        <p:grpSpPr>
          <a:xfrm>
            <a:off x="3240" y="12600"/>
            <a:ext cx="9140760" cy="6854760"/>
            <a:chOff x="3240" y="12600"/>
            <a:chExt cx="9140760" cy="6854760"/>
          </a:xfrm>
        </p:grpSpPr>
        <p:pic>
          <p:nvPicPr>
            <p:cNvPr id="91" name="Picture 3" descr="12173-SolidWorks-cov"/>
            <p:cNvPicPr/>
            <p:nvPr/>
          </p:nvPicPr>
          <p:blipFill>
            <a:blip r:embed="rId4"/>
            <a:stretch/>
          </p:blipFill>
          <p:spPr>
            <a:xfrm>
              <a:off x="3240" y="12600"/>
              <a:ext cx="9140760" cy="685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4"/>
            <p:cNvSpPr/>
            <p:nvPr/>
          </p:nvSpPr>
          <p:spPr>
            <a:xfrm>
              <a:off x="6370560" y="6304680"/>
              <a:ext cx="24098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9c8e80"/>
                  </a:solidFill>
                  <a:latin typeface="Arial"/>
                </a:rPr>
                <a:t>Image courtesy of National Optical Astronomy Observatory, operated by the Association of Universities for Research in Astronomy, under cooperative agreement with the National Science Foundation.</a:t>
              </a:r>
              <a:endParaRPr b="1" lang="en-US" sz="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93" name="Picture 5" descr="swlogcol"/>
            <p:cNvPicPr/>
            <p:nvPr/>
          </p:nvPicPr>
          <p:blipFill>
            <a:blip r:embed="rId5"/>
            <a:stretch/>
          </p:blipFill>
          <p:spPr>
            <a:xfrm>
              <a:off x="7437600" y="442800"/>
              <a:ext cx="1338120" cy="73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1600" y="108000"/>
            <a:ext cx="75866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201240" y="1296720"/>
            <a:ext cx="865044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635040" indent="-28584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97776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32084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166356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1663560" indent="-228600">
              <a:lnSpc>
                <a:spcPct val="95000"/>
              </a:lnSpc>
              <a:spcBef>
                <a:spcPts val="15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1663560" indent="-228600">
              <a:lnSpc>
                <a:spcPct val="95000"/>
              </a:lnSpc>
              <a:spcBef>
                <a:spcPts val="15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8948-715B-44C9-9D9B-3A658BA6EDA3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3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36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137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139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pic>
        <p:nvPicPr>
          <p:cNvPr id="140" name="Image 8" descr="3DS_emblem_3D_pers1_PPT.jpg"/>
          <p:cNvPicPr/>
          <p:nvPr/>
        </p:nvPicPr>
        <p:blipFill>
          <a:blip r:embed="rId6"/>
          <a:stretch/>
        </p:blipFill>
        <p:spPr>
          <a:xfrm>
            <a:off x="1116000" y="2909880"/>
            <a:ext cx="3527280" cy="39481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1"/>
          <p:cNvSpPr/>
          <p:nvPr/>
        </p:nvSpPr>
        <p:spPr>
          <a:xfrm>
            <a:off x="324000" y="231840"/>
            <a:ext cx="647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1441-5802-499A-BF9A-C645DAFCBB26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81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183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84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185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187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9"/>
          <p:cNvSpPr/>
          <p:nvPr/>
        </p:nvSpPr>
        <p:spPr>
          <a:xfrm>
            <a:off x="324000" y="231840"/>
            <a:ext cx="647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B59C-B8EB-48FD-9C1B-C07CEEA652E0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28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230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31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232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234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pic>
        <p:nvPicPr>
          <p:cNvPr id="235" name="Image 6" descr="3DS_emblem_3D_pers1_PPT.jpg"/>
          <p:cNvPicPr/>
          <p:nvPr/>
        </p:nvPicPr>
        <p:blipFill>
          <a:blip r:embed="rId6"/>
          <a:stretch/>
        </p:blipFill>
        <p:spPr>
          <a:xfrm>
            <a:off x="1116000" y="2909880"/>
            <a:ext cx="3527280" cy="39481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2F0D-E48E-49CF-AFBA-D79545515179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75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277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78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279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281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9"/>
          <p:cNvSpPr/>
          <p:nvPr/>
        </p:nvSpPr>
        <p:spPr>
          <a:xfrm>
            <a:off x="250920" y="231840"/>
            <a:ext cx="6490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5947-9D0D-43C9-AB02-889629508ACF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22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324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25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326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328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9"/>
          <p:cNvSpPr/>
          <p:nvPr/>
        </p:nvSpPr>
        <p:spPr>
          <a:xfrm>
            <a:off x="250920" y="231840"/>
            <a:ext cx="6490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30" name="Image 6" descr="3DS_emblem_3D_pers1_PPT.jpg"/>
          <p:cNvPicPr/>
          <p:nvPr/>
        </p:nvPicPr>
        <p:blipFill>
          <a:blip r:embed="rId6"/>
          <a:stretch/>
        </p:blipFill>
        <p:spPr>
          <a:xfrm>
            <a:off x="1116000" y="2909880"/>
            <a:ext cx="3527280" cy="394812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152F-031A-4E29-A091-E2523A63A4C0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70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372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73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374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376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377" name="Espace réservé de la date 3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9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9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9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9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9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9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3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6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6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wmf"/><Relationship Id="rId6" Type="http://schemas.openxmlformats.org/officeDocument/2006/relationships/slideLayout" Target="../slideLayouts/slideLayout16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9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6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6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6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20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8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8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8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8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8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slideLayout" Target="../slideLayouts/slideLayout18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9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9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9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86920" y="1447920"/>
            <a:ext cx="853452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575f"/>
                </a:solidFill>
                <a:latin typeface="Arial Narrow"/>
              </a:rPr>
              <a:t>Instructor’s Guide to Teaching SolidWorks Software Lesson 8</a:t>
            </a:r>
            <a:endParaRPr b="1" lang="en-US" sz="32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11280" y="26668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Early College EAS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s. Sparnel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762120" y="26676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Hide All the Feature Dimensions for a Selected Featur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510552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ight-click the feature in the FeatureManager design tree, and select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Hide All Dimension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from the shortcut menu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86" name="Picture 6" descr="HideDim"/>
          <p:cNvPicPr/>
          <p:nvPr/>
        </p:nvPicPr>
        <p:blipFill>
          <a:blip r:embed="rId1"/>
          <a:stretch/>
        </p:blipFill>
        <p:spPr>
          <a:xfrm>
            <a:off x="6022800" y="1371600"/>
            <a:ext cx="2130480" cy="458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Picture 6" descr="HideDim2"/>
          <p:cNvPicPr/>
          <p:nvPr/>
        </p:nvPicPr>
        <p:blipFill>
          <a:blip r:embed="rId1"/>
          <a:stretch/>
        </p:blipFill>
        <p:spPr>
          <a:xfrm>
            <a:off x="3809880" y="1371600"/>
            <a:ext cx="5257800" cy="429588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Hide Individual Dimension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85800" y="1296720"/>
            <a:ext cx="3657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ight-click the dimension, and select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Hid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from the shortcut menu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822240" y="266760"/>
            <a:ext cx="702648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Display Dimension Name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762120" y="1296720"/>
            <a:ext cx="35049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Tool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,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Option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General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on the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System Option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tab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Show dimension name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OK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92" name="Picture 4" descr=""/>
          <p:cNvPicPr/>
          <p:nvPr/>
        </p:nvPicPr>
        <p:blipFill>
          <a:blip r:embed="rId1"/>
          <a:stretch/>
        </p:blipFill>
        <p:spPr>
          <a:xfrm>
            <a:off x="3962520" y="1828800"/>
            <a:ext cx="4876560" cy="386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Rename a Dimension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762120" y="1296720"/>
            <a:ext cx="5486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Display the dimension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685800" indent="-22860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Either double-click the feature to display its dimension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685800" indent="-22860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Or, right-click the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Annotation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folder, and select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Show Feature Dimension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the 70mm diameter dimension, and in the PropertyManager, rename the dimension to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knob_dia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, then click OK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Note: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“@Sketch2” is automatically added to the dimension nam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95" name="Picture 6" descr="renameDim"/>
          <p:cNvPicPr/>
          <p:nvPr/>
        </p:nvPicPr>
        <p:blipFill>
          <a:blip r:embed="rId1"/>
          <a:stretch/>
        </p:blipFill>
        <p:spPr>
          <a:xfrm>
            <a:off x="6934320" y="1295280"/>
            <a:ext cx="1461960" cy="4776840"/>
          </a:xfrm>
          <a:prstGeom prst="rect">
            <a:avLst/>
          </a:prstGeom>
          <a:ln w="0">
            <a:noFill/>
          </a:ln>
        </p:spPr>
      </p:pic>
      <p:sp>
        <p:nvSpPr>
          <p:cNvPr id="896" name="Oval 8"/>
          <p:cNvSpPr/>
          <p:nvPr/>
        </p:nvSpPr>
        <p:spPr>
          <a:xfrm>
            <a:off x="7010280" y="3505320"/>
            <a:ext cx="1143000" cy="228600"/>
          </a:xfrm>
          <a:prstGeom prst="ellipse">
            <a:avLst/>
          </a:prstGeom>
          <a:noFill/>
          <a:ln w="28440">
            <a:solidFill>
              <a:srgbClr val="55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4" descr=""/>
          <p:cNvPicPr/>
          <p:nvPr/>
        </p:nvPicPr>
        <p:blipFill>
          <a:blip r:embed="rId1"/>
          <a:stretch/>
        </p:blipFill>
        <p:spPr>
          <a:xfrm>
            <a:off x="4648320" y="2209680"/>
            <a:ext cx="4249440" cy="3621240"/>
          </a:xfrm>
          <a:prstGeom prst="rect">
            <a:avLst/>
          </a:prstGeom>
          <a:ln w="0">
            <a:noFill/>
          </a:ln>
        </p:spPr>
      </p:pic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Rename these Dimension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838080" y="1296720"/>
            <a:ext cx="41148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Height of the box to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box_height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Width of the box to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box_width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iameter of the hole in the knob to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hole_dia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adius of outside corners to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fillet_radiu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Design Inten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01" name="Picture 4" descr=""/>
          <p:cNvPicPr/>
          <p:nvPr/>
        </p:nvPicPr>
        <p:blipFill>
          <a:blip r:embed="rId1"/>
          <a:stretch/>
        </p:blipFill>
        <p:spPr>
          <a:xfrm>
            <a:off x="4726080" y="1433520"/>
            <a:ext cx="4002120" cy="4589280"/>
          </a:xfrm>
          <a:prstGeom prst="rect">
            <a:avLst/>
          </a:prstGeom>
          <a:ln w="0">
            <a:noFill/>
          </a:ln>
        </p:spPr>
      </p:pic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838080" y="1296720"/>
            <a:ext cx="41608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depth of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Knob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should always be equal to the depth of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Box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(the base feature)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Knob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should always be centered on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Box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imensions alone are not always the best way to capture design inten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Linking Value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899640" y="1371240"/>
            <a:ext cx="789156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Link Value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command relates dimensions to each other through shared variable name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If the value of one linked dimension is modified, then all of the linked dimensions are modifie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Link Value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is excellent for making feature dimensions equal to each other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s is an important tool for capturing design inten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Examples of Uses for Link Value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201600" y="1296720"/>
            <a:ext cx="36180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thickness of the square and the two tabs is always equal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width of both slots is always equal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grpSp>
        <p:nvGrpSpPr>
          <p:cNvPr id="907" name="Group 10"/>
          <p:cNvGrpSpPr/>
          <p:nvPr/>
        </p:nvGrpSpPr>
        <p:grpSpPr>
          <a:xfrm>
            <a:off x="3819600" y="1297080"/>
            <a:ext cx="4943160" cy="4493880"/>
            <a:chOff x="3819600" y="1297080"/>
            <a:chExt cx="4943160" cy="4493880"/>
          </a:xfrm>
        </p:grpSpPr>
        <p:pic>
          <p:nvPicPr>
            <p:cNvPr id="908" name="Picture 4" descr=""/>
            <p:cNvPicPr/>
            <p:nvPr/>
          </p:nvPicPr>
          <p:blipFill>
            <a:blip r:embed="rId1"/>
            <a:stretch/>
          </p:blipFill>
          <p:spPr>
            <a:xfrm>
              <a:off x="3893400" y="1297080"/>
              <a:ext cx="2360880" cy="180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Picture 6" descr=""/>
            <p:cNvPicPr/>
            <p:nvPr/>
          </p:nvPicPr>
          <p:blipFill>
            <a:blip r:embed="rId2"/>
            <a:stretch/>
          </p:blipFill>
          <p:spPr>
            <a:xfrm>
              <a:off x="6401880" y="1364760"/>
              <a:ext cx="2360880" cy="160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Picture 8" descr=""/>
            <p:cNvPicPr/>
            <p:nvPr/>
          </p:nvPicPr>
          <p:blipFill>
            <a:blip r:embed="rId3"/>
            <a:stretch/>
          </p:blipFill>
          <p:spPr>
            <a:xfrm>
              <a:off x="3819600" y="3475800"/>
              <a:ext cx="2490120" cy="231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1" name="Picture 9" descr=""/>
            <p:cNvPicPr/>
            <p:nvPr/>
          </p:nvPicPr>
          <p:blipFill>
            <a:blip r:embed="rId4"/>
            <a:stretch/>
          </p:blipFill>
          <p:spPr>
            <a:xfrm>
              <a:off x="6401880" y="3475800"/>
              <a:ext cx="2357640" cy="2315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79250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Link the Depth of the Box to the Depth of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Knob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13" name="Picture 4" descr=""/>
          <p:cNvPicPr/>
          <p:nvPr/>
        </p:nvPicPr>
        <p:blipFill>
          <a:blip r:embed="rId1"/>
          <a:stretch/>
        </p:blipFill>
        <p:spPr>
          <a:xfrm>
            <a:off x="3962520" y="1523880"/>
            <a:ext cx="4638600" cy="270540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6" descr="linkvalues"/>
          <p:cNvPicPr/>
          <p:nvPr/>
        </p:nvPicPr>
        <p:blipFill>
          <a:blip r:embed="rId2"/>
          <a:stretch/>
        </p:blipFill>
        <p:spPr>
          <a:xfrm>
            <a:off x="6705720" y="2362320"/>
            <a:ext cx="2047680" cy="2404800"/>
          </a:xfrm>
          <a:prstGeom prst="rect">
            <a:avLst/>
          </a:prstGeom>
          <a:ln w="0">
            <a:noFill/>
          </a:ln>
        </p:spPr>
      </p:pic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6840" y="1296720"/>
            <a:ext cx="39625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isplay the dimension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ight-click on the depth dimension for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Box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, and select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Link Value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from the shortcut menu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Linking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Box</a:t>
            </a: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 to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Knob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33520" y="1296720"/>
            <a:ext cx="391464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Typ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Depth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in the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Nam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text box and then 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OK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Right-click on the depth dimension for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Knob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, and select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Link Value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from the shortcut menu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18" name="Picture 9" descr=""/>
          <p:cNvPicPr/>
          <p:nvPr/>
        </p:nvPicPr>
        <p:blipFill>
          <a:blip r:embed="rId1"/>
          <a:stretch/>
        </p:blipFill>
        <p:spPr>
          <a:xfrm>
            <a:off x="5418000" y="1297080"/>
            <a:ext cx="2617920" cy="2354040"/>
          </a:xfrm>
          <a:prstGeom prst="rect">
            <a:avLst/>
          </a:prstGeom>
          <a:ln w="0">
            <a:noFill/>
          </a:ln>
        </p:spPr>
      </p:pic>
      <p:pic>
        <p:nvPicPr>
          <p:cNvPr id="919" name="Picture 11" descr="LinkValues"/>
          <p:cNvPicPr/>
          <p:nvPr/>
        </p:nvPicPr>
        <p:blipFill>
          <a:blip r:embed="rId2"/>
          <a:stretch/>
        </p:blipFill>
        <p:spPr>
          <a:xfrm>
            <a:off x="5410080" y="3886200"/>
            <a:ext cx="2048040" cy="2405160"/>
          </a:xfrm>
          <a:prstGeom prst="rect">
            <a:avLst/>
          </a:prstGeom>
          <a:ln w="0">
            <a:noFill/>
          </a:ln>
        </p:spPr>
      </p:pic>
      <p:pic>
        <p:nvPicPr>
          <p:cNvPr id="920" name="Picture 12" descr="sharedValue"/>
          <p:cNvPicPr/>
          <p:nvPr/>
        </p:nvPicPr>
        <p:blipFill>
          <a:blip r:embed="rId3"/>
          <a:stretch/>
        </p:blipFill>
        <p:spPr>
          <a:xfrm>
            <a:off x="4800600" y="1447920"/>
            <a:ext cx="3573360" cy="98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Families of Part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762120" y="1296720"/>
            <a:ext cx="44719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any times parts come in a variety of size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s is called a family of part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It is not efficient to build each version individually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esign Tables simplify making families of part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grpSp>
        <p:nvGrpSpPr>
          <p:cNvPr id="844" name="Group 10"/>
          <p:cNvGrpSpPr/>
          <p:nvPr/>
        </p:nvGrpSpPr>
        <p:grpSpPr>
          <a:xfrm>
            <a:off x="5562720" y="1676520"/>
            <a:ext cx="3276360" cy="3352320"/>
            <a:chOff x="5562720" y="1676520"/>
            <a:chExt cx="3276360" cy="3352320"/>
          </a:xfrm>
        </p:grpSpPr>
        <p:pic>
          <p:nvPicPr>
            <p:cNvPr id="845" name="Picture 4" descr=""/>
            <p:cNvPicPr/>
            <p:nvPr/>
          </p:nvPicPr>
          <p:blipFill>
            <a:blip r:embed="rId1"/>
            <a:stretch/>
          </p:blipFill>
          <p:spPr>
            <a:xfrm>
              <a:off x="5574240" y="1727640"/>
              <a:ext cx="1520640" cy="151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6" name="Picture 6" descr=""/>
            <p:cNvPicPr/>
            <p:nvPr/>
          </p:nvPicPr>
          <p:blipFill>
            <a:blip r:embed="rId2"/>
            <a:stretch/>
          </p:blipFill>
          <p:spPr>
            <a:xfrm>
              <a:off x="7049160" y="1676520"/>
              <a:ext cx="1789920" cy="151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7" name="Picture 8" descr=""/>
            <p:cNvPicPr/>
            <p:nvPr/>
          </p:nvPicPr>
          <p:blipFill>
            <a:blip r:embed="rId3"/>
            <a:stretch/>
          </p:blipFill>
          <p:spPr>
            <a:xfrm>
              <a:off x="5562720" y="3326760"/>
              <a:ext cx="1536480" cy="153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9" descr=""/>
            <p:cNvPicPr/>
            <p:nvPr/>
          </p:nvPicPr>
          <p:blipFill>
            <a:blip r:embed="rId4"/>
            <a:stretch/>
          </p:blipFill>
          <p:spPr>
            <a:xfrm>
              <a:off x="7255440" y="3223800"/>
              <a:ext cx="1402920" cy="1805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Linking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Box</a:t>
            </a: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 to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Knob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201240" y="1296720"/>
            <a:ext cx="49546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4b575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Select </a:t>
            </a:r>
            <a:r>
              <a:rPr b="0" i="1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Depth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 from the list, and 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"/>
                <a:ea typeface="Arial"/>
              </a:rPr>
              <a:t>OK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4b575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Both dimensions have the same name and valu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4b575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"/>
                <a:ea typeface="Arial"/>
              </a:rPr>
              <a:t>Rebuild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 the part to update the geometry.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6637"/>
                </a:solidFill>
                <a:latin typeface="Arial"/>
                <a:ea typeface="Arial"/>
              </a:rPr>
              <a:t>Tip:</a:t>
            </a:r>
            <a:r>
              <a:rPr b="0" lang="en-US" sz="2000" spc="-1" strike="noStrike">
                <a:solidFill>
                  <a:srgbClr val="4b575f"/>
                </a:solidFill>
                <a:latin typeface="Arial"/>
                <a:ea typeface="Arial"/>
              </a:rPr>
              <a:t> Use the CTRL key to select several dimensions at the same time and link them in one step.</a:t>
            </a:r>
            <a:endParaRPr b="0" lang="en-US" sz="2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23" name="Picture 4" descr=""/>
          <p:cNvPicPr/>
          <p:nvPr/>
        </p:nvPicPr>
        <p:blipFill>
          <a:blip r:embed="rId1"/>
          <a:stretch/>
        </p:blipFill>
        <p:spPr>
          <a:xfrm>
            <a:off x="5087880" y="1297080"/>
            <a:ext cx="3278160" cy="23540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8" descr="sharedValue"/>
          <p:cNvPicPr/>
          <p:nvPr/>
        </p:nvPicPr>
        <p:blipFill>
          <a:blip r:embed="rId2"/>
          <a:stretch/>
        </p:blipFill>
        <p:spPr>
          <a:xfrm>
            <a:off x="5181480" y="1371600"/>
            <a:ext cx="3573720" cy="98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9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9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9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Geometric Relation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899640" y="1371240"/>
            <a:ext cx="789156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elate geometry through physical relationships such as: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ncentric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radia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idpoin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Equa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llinear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inciden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9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9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9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Examples of Geometric Relation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838080" y="1296720"/>
            <a:ext cx="46324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ketch Fillet tool automatically creates one radial dimension and 3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Equal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relation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hanging the dimension changes all 4 fillet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s technique is better than having 4 radial dimension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29" name="Picture 4" descr=""/>
          <p:cNvPicPr/>
          <p:nvPr/>
        </p:nvPicPr>
        <p:blipFill>
          <a:blip r:embed="rId1"/>
          <a:stretch/>
        </p:blipFill>
        <p:spPr>
          <a:xfrm>
            <a:off x="5076720" y="1366920"/>
            <a:ext cx="3146400" cy="19159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6" descr=""/>
          <p:cNvPicPr/>
          <p:nvPr/>
        </p:nvPicPr>
        <p:blipFill>
          <a:blip r:embed="rId2"/>
          <a:stretch/>
        </p:blipFill>
        <p:spPr>
          <a:xfrm>
            <a:off x="4916520" y="3803760"/>
            <a:ext cx="3620880" cy="235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9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9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9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9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Examples of Geometric Relation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838080" y="1296720"/>
            <a:ext cx="31384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wo feature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aking the circle for the boss Coradial with the edge of the base ensures that the boss will always be the correct size regardless of how the base change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grpSp>
        <p:nvGrpSpPr>
          <p:cNvPr id="933" name="Group 13"/>
          <p:cNvGrpSpPr/>
          <p:nvPr/>
        </p:nvGrpSpPr>
        <p:grpSpPr>
          <a:xfrm>
            <a:off x="4038480" y="1143000"/>
            <a:ext cx="4910400" cy="4869000"/>
            <a:chOff x="4038480" y="1143000"/>
            <a:chExt cx="4910400" cy="4869000"/>
          </a:xfrm>
        </p:grpSpPr>
        <p:pic>
          <p:nvPicPr>
            <p:cNvPr id="934" name="Picture 5" descr=""/>
            <p:cNvPicPr/>
            <p:nvPr/>
          </p:nvPicPr>
          <p:blipFill>
            <a:blip r:embed="rId1"/>
            <a:stretch/>
          </p:blipFill>
          <p:spPr>
            <a:xfrm>
              <a:off x="4038480" y="1143000"/>
              <a:ext cx="2471760" cy="24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5" name="Picture 7" descr=""/>
            <p:cNvPicPr/>
            <p:nvPr/>
          </p:nvPicPr>
          <p:blipFill>
            <a:blip r:embed="rId2"/>
            <a:stretch/>
          </p:blipFill>
          <p:spPr>
            <a:xfrm>
              <a:off x="6553080" y="1219320"/>
              <a:ext cx="2395800" cy="24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6" name="Picture 9" descr=""/>
            <p:cNvPicPr/>
            <p:nvPr/>
          </p:nvPicPr>
          <p:blipFill>
            <a:blip r:embed="rId3"/>
            <a:stretch/>
          </p:blipFill>
          <p:spPr>
            <a:xfrm>
              <a:off x="4191120" y="4275000"/>
              <a:ext cx="2404800" cy="168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7" name="Picture 10" descr=""/>
            <p:cNvPicPr/>
            <p:nvPr/>
          </p:nvPicPr>
          <p:blipFill>
            <a:blip r:embed="rId4"/>
            <a:stretch/>
          </p:blipFill>
          <p:spPr>
            <a:xfrm>
              <a:off x="6858000" y="4419720"/>
              <a:ext cx="2057400" cy="159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11" descr=""/>
            <p:cNvPicPr/>
            <p:nvPr/>
          </p:nvPicPr>
          <p:blipFill>
            <a:blip r:embed="rId5"/>
            <a:stretch/>
          </p:blipFill>
          <p:spPr>
            <a:xfrm>
              <a:off x="4724280" y="3809880"/>
              <a:ext cx="3430800" cy="5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Text Box 12"/>
          <p:cNvSpPr/>
          <p:nvPr/>
        </p:nvSpPr>
        <p:spPr>
          <a:xfrm>
            <a:off x="5938920" y="4267080"/>
            <a:ext cx="106524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Or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Center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Knob</a:t>
            </a: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 on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Box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838080" y="1296720"/>
            <a:ext cx="50263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4b57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Right-click the </a:t>
            </a:r>
            <a:r>
              <a:rPr b="0" i="1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Knob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 feature, and select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"/>
                <a:ea typeface="Arial"/>
              </a:rPr>
              <a:t>Edit Sketch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       from the shortcut menu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42" name="Picture 6" descr="EditSketch"/>
          <p:cNvPicPr/>
          <p:nvPr/>
        </p:nvPicPr>
        <p:blipFill>
          <a:blip r:embed="rId1"/>
          <a:stretch/>
        </p:blipFill>
        <p:spPr>
          <a:xfrm>
            <a:off x="4562640" y="1752480"/>
            <a:ext cx="237960" cy="22860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7" descr="EditSketchPM"/>
          <p:cNvPicPr/>
          <p:nvPr/>
        </p:nvPicPr>
        <p:blipFill>
          <a:blip r:embed="rId2"/>
          <a:stretch/>
        </p:blipFill>
        <p:spPr>
          <a:xfrm>
            <a:off x="5791320" y="1371600"/>
            <a:ext cx="2104920" cy="499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838080" y="190080"/>
            <a:ext cx="695016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entering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Knob</a:t>
            </a: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 on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Box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838080" y="1296720"/>
            <a:ext cx="471024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Delete the linear dimension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Notice the circle is blue, indicating it is under define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Drag the circle to one side. Without dimensions to locate it, it is free to mov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Centerline       , and sketch a diagonal Centerlin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46" name="Picture 11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3338280" cy="43624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2" descr=""/>
          <p:cNvPicPr/>
          <p:nvPr/>
        </p:nvPicPr>
        <p:blipFill>
          <a:blip r:embed="rId2"/>
          <a:stretch/>
        </p:blipFill>
        <p:spPr>
          <a:xfrm>
            <a:off x="5562720" y="1600200"/>
            <a:ext cx="3338280" cy="43624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4" descr="icon_centerline"/>
          <p:cNvPicPr/>
          <p:nvPr/>
        </p:nvPicPr>
        <p:blipFill>
          <a:blip r:embed="rId3"/>
          <a:stretch/>
        </p:blipFill>
        <p:spPr>
          <a:xfrm>
            <a:off x="3220920" y="3962520"/>
            <a:ext cx="284400" cy="28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9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9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9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9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9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9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Picture 8" descr="icon_add_relation"/>
          <p:cNvPicPr/>
          <p:nvPr/>
        </p:nvPicPr>
        <p:blipFill>
          <a:blip r:embed="rId1"/>
          <a:stretch/>
        </p:blipFill>
        <p:spPr>
          <a:xfrm>
            <a:off x="3657600" y="1252440"/>
            <a:ext cx="284040" cy="27144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838080" y="190080"/>
            <a:ext cx="695016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entering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Knob</a:t>
            </a: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 on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Box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5562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Add Relation 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      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Select the centerline and the point at the center of the circl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806400" indent="-349200">
              <a:lnSpc>
                <a:spcPct val="85000"/>
              </a:lnSpc>
              <a:spcBef>
                <a:spcPts val="601"/>
              </a:spcBef>
              <a:buClr>
                <a:srgbClr val="1966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637"/>
                </a:solidFill>
                <a:latin typeface="Arial Narrow"/>
                <a:ea typeface="Arial"/>
              </a:rPr>
              <a:t>Note: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If the centerline is still highlighted when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Add Relation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opens, the line automatically appears in the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Selected Entitie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list and you do not have to select it again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806400" indent="-349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If you select the wrong entity, right-click in the graphics area, and select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Clear Selection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52" name="Picture 11" descr="AddRelation2"/>
          <p:cNvPicPr/>
          <p:nvPr/>
        </p:nvPicPr>
        <p:blipFill>
          <a:blip r:embed="rId2"/>
          <a:stretch/>
        </p:blipFill>
        <p:spPr>
          <a:xfrm>
            <a:off x="6553080" y="1295280"/>
            <a:ext cx="1828800" cy="399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9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9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entering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Knob</a:t>
            </a: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 on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Box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914400" y="1296720"/>
            <a:ext cx="35337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Midpoint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, and then 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Apply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and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Clos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The circle will now stay centered on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Box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featur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55" name="Picture 8" descr=""/>
          <p:cNvPicPr/>
          <p:nvPr/>
        </p:nvPicPr>
        <p:blipFill>
          <a:blip r:embed="rId1"/>
          <a:stretch/>
        </p:blipFill>
        <p:spPr>
          <a:xfrm>
            <a:off x="4822920" y="1393920"/>
            <a:ext cx="3808440" cy="466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entering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Knob</a:t>
            </a: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 on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Box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4648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Rebuild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     to exit the sketch and rebuild the par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58" name="Picture 6" descr=""/>
          <p:cNvPicPr/>
          <p:nvPr/>
        </p:nvPicPr>
        <p:blipFill>
          <a:blip r:embed="rId1"/>
          <a:stretch/>
        </p:blipFill>
        <p:spPr>
          <a:xfrm>
            <a:off x="5703840" y="1297080"/>
            <a:ext cx="2046240" cy="23540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8" descr="icon_rebuild"/>
          <p:cNvPicPr/>
          <p:nvPr/>
        </p:nvPicPr>
        <p:blipFill>
          <a:blip r:embed="rId2"/>
          <a:stretch/>
        </p:blipFill>
        <p:spPr>
          <a:xfrm>
            <a:off x="3048120" y="1295280"/>
            <a:ext cx="284040" cy="28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Picture 6" descr="DesignTable"/>
          <p:cNvPicPr/>
          <p:nvPr/>
        </p:nvPicPr>
        <p:blipFill>
          <a:blip r:embed="rId1"/>
          <a:stretch/>
        </p:blipFill>
        <p:spPr>
          <a:xfrm>
            <a:off x="6705720" y="1371600"/>
            <a:ext cx="1828800" cy="4629240"/>
          </a:xfrm>
          <a:prstGeom prst="rect">
            <a:avLst/>
          </a:prstGeom>
          <a:ln w="0">
            <a:noFill/>
          </a:ln>
        </p:spPr>
      </p:pic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Insert a New Design Tabl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838080" y="1296720"/>
            <a:ext cx="573264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Position the part in the lower right hand corner of the graphics area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Insert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,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Design Tabl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The PropertyManager appear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spcBef>
                <a:spcPts val="1500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Select the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Auto-creat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option to create a new design table automatically 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9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9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9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9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Design Table Overview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899640" y="1219320"/>
            <a:ext cx="7891560" cy="49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esign Tables are used to create different configurations of a par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What is a Configuration?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499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575f"/>
                </a:solidFill>
                <a:latin typeface="Arial Narrow"/>
              </a:rPr>
              <a:t>A configuration is a way to create a family of similar parts within one file.</a:t>
            </a:r>
            <a:endParaRPr b="0" lang="en-US" sz="20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499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575f"/>
                </a:solidFill>
                <a:latin typeface="Arial Narrow"/>
              </a:rPr>
              <a:t>Each configuration represents one version of the part.</a:t>
            </a:r>
            <a:endParaRPr b="0" lang="en-US" sz="20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esign Tables automatically change the dimensions and features of an existing part to create multiple configurations. The configurations control the size and shape of a par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Picture 18" descr="CreateDT"/>
          <p:cNvPicPr/>
          <p:nvPr/>
        </p:nvPicPr>
        <p:blipFill>
          <a:blip r:embed="rId1"/>
          <a:stretch/>
        </p:blipFill>
        <p:spPr>
          <a:xfrm>
            <a:off x="2438280" y="1295280"/>
            <a:ext cx="6363000" cy="490716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8080" y="379440"/>
            <a:ext cx="8305920" cy="45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Inserting a New Design Tabl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65" name="Picture 16" descr="dtDims"/>
          <p:cNvPicPr/>
          <p:nvPr/>
        </p:nvPicPr>
        <p:blipFill>
          <a:blip r:embed="rId2"/>
          <a:stretch/>
        </p:blipFill>
        <p:spPr>
          <a:xfrm>
            <a:off x="457200" y="1066680"/>
            <a:ext cx="26002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Inserting a New Design Tabl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899640" y="1371240"/>
            <a:ext cx="789156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n Excel worksheet is displayed in the part document window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Excel toolbars replace the SolidWorks toolbar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By default, the first configuration is named Default. You can (and should) change this to something more meaningful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8" name="Picture 16" descr="PICT0133"/>
          <p:cNvPicPr/>
          <p:nvPr/>
        </p:nvPicPr>
        <p:blipFill>
          <a:blip r:embed="rId1"/>
          <a:stretch/>
        </p:blipFill>
        <p:spPr>
          <a:xfrm>
            <a:off x="301680" y="2211480"/>
            <a:ext cx="8537400" cy="2074680"/>
          </a:xfrm>
          <a:prstGeom prst="rect">
            <a:avLst/>
          </a:prstGeom>
          <a:ln w="0">
            <a:noFill/>
          </a:ln>
        </p:spPr>
      </p:pic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Review of a Design Table’s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70" name="Text Box 4"/>
          <p:cNvSpPr/>
          <p:nvPr/>
        </p:nvSpPr>
        <p:spPr>
          <a:xfrm>
            <a:off x="3042720" y="4724280"/>
            <a:ext cx="293832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Configuration names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go in this column.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1" name="Text Box 5"/>
          <p:cNvSpPr/>
          <p:nvPr/>
        </p:nvSpPr>
        <p:spPr>
          <a:xfrm>
            <a:off x="3865320" y="1295280"/>
            <a:ext cx="42580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Dimension and/or Feature names</a:t>
            </a:r>
            <a:br>
              <a:rPr sz="1800"/>
            </a:b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or special keywords go in this row.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2" name="Text Box 6"/>
          <p:cNvSpPr/>
          <p:nvPr/>
        </p:nvSpPr>
        <p:spPr>
          <a:xfrm>
            <a:off x="6471720" y="4800600"/>
            <a:ext cx="23410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Values go here.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973" name="Group 7"/>
          <p:cNvGrpSpPr/>
          <p:nvPr/>
        </p:nvGrpSpPr>
        <p:grpSpPr>
          <a:xfrm>
            <a:off x="2971440" y="1447920"/>
            <a:ext cx="914400" cy="1447560"/>
            <a:chOff x="2971440" y="1447920"/>
            <a:chExt cx="914400" cy="1447560"/>
          </a:xfrm>
        </p:grpSpPr>
        <p:sp>
          <p:nvSpPr>
            <p:cNvPr id="974" name="Line 8"/>
            <p:cNvSpPr/>
            <p:nvPr/>
          </p:nvSpPr>
          <p:spPr>
            <a:xfrm flipH="1">
              <a:off x="3580920" y="1447920"/>
              <a:ext cx="30492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75" name="Line 9"/>
            <p:cNvSpPr/>
            <p:nvPr/>
          </p:nvSpPr>
          <p:spPr>
            <a:xfrm flipH="1">
              <a:off x="2971440" y="1447920"/>
              <a:ext cx="609480" cy="144756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76" name="Group 10"/>
          <p:cNvGrpSpPr/>
          <p:nvPr/>
        </p:nvGrpSpPr>
        <p:grpSpPr>
          <a:xfrm>
            <a:off x="1752480" y="4038120"/>
            <a:ext cx="1524240" cy="838800"/>
            <a:chOff x="1752480" y="4038120"/>
            <a:chExt cx="1524240" cy="838800"/>
          </a:xfrm>
        </p:grpSpPr>
        <p:sp>
          <p:nvSpPr>
            <p:cNvPr id="977" name="Line 11"/>
            <p:cNvSpPr/>
            <p:nvPr/>
          </p:nvSpPr>
          <p:spPr>
            <a:xfrm flipH="1">
              <a:off x="2743200" y="4876920"/>
              <a:ext cx="53352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78" name="Line 12"/>
            <p:cNvSpPr/>
            <p:nvPr/>
          </p:nvSpPr>
          <p:spPr>
            <a:xfrm flipH="1" flipV="1">
              <a:off x="1752480" y="4038120"/>
              <a:ext cx="990720" cy="83844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79" name="Group 13"/>
          <p:cNvGrpSpPr/>
          <p:nvPr/>
        </p:nvGrpSpPr>
        <p:grpSpPr>
          <a:xfrm>
            <a:off x="5181480" y="4114800"/>
            <a:ext cx="1524240" cy="838080"/>
            <a:chOff x="5181480" y="4114800"/>
            <a:chExt cx="1524240" cy="838080"/>
          </a:xfrm>
        </p:grpSpPr>
        <p:sp>
          <p:nvSpPr>
            <p:cNvPr id="980" name="Line 14"/>
            <p:cNvSpPr/>
            <p:nvPr/>
          </p:nvSpPr>
          <p:spPr>
            <a:xfrm flipH="1">
              <a:off x="6172200" y="4952880"/>
              <a:ext cx="53352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81" name="Line 15"/>
            <p:cNvSpPr/>
            <p:nvPr/>
          </p:nvSpPr>
          <p:spPr>
            <a:xfrm flipH="1" flipV="1">
              <a:off x="5181480" y="4114800"/>
              <a:ext cx="990720" cy="83808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Inserting a New Design Tabl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83" name=""/>
          <p:cNvSpPr txBox="1"/>
          <p:nvPr/>
        </p:nvSpPr>
        <p:spPr>
          <a:xfrm>
            <a:off x="380880" y="1219320"/>
            <a:ext cx="5486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Double-click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box_width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dimension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The full dimension name is inserted into cell B2. The dimension value is inserted into cell B3.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The next cell, C2, is automatically selected.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Double-click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box_height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dimension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84" name="Picture 7" descr="5TABFIR"/>
          <p:cNvPicPr/>
          <p:nvPr/>
        </p:nvPicPr>
        <p:blipFill>
          <a:blip r:embed="rId1"/>
          <a:stretch/>
        </p:blipFill>
        <p:spPr>
          <a:xfrm>
            <a:off x="6019920" y="2438280"/>
            <a:ext cx="2504880" cy="118116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8" descr="5FINTAB2"/>
          <p:cNvPicPr/>
          <p:nvPr/>
        </p:nvPicPr>
        <p:blipFill>
          <a:blip r:embed="rId2"/>
          <a:stretch/>
        </p:blipFill>
        <p:spPr>
          <a:xfrm>
            <a:off x="5791320" y="4495680"/>
            <a:ext cx="2857320" cy="8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Inserting a New Design Tabl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899640" y="1371240"/>
            <a:ext cx="789156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4b575f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epeat this process for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knob_dia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,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hole_dia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,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fillet_radiu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, and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Depth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915840" indent="-457200">
              <a:spcBef>
                <a:spcPts val="499"/>
              </a:spcBef>
              <a:buClr>
                <a:srgbClr val="19663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6637"/>
                </a:solidFill>
                <a:latin typeface="Arial Narrow"/>
              </a:rPr>
              <a:t>Note:</a:t>
            </a:r>
            <a:r>
              <a:rPr b="0" lang="en-US" sz="2000" spc="-1" strike="noStrike">
                <a:solidFill>
                  <a:srgbClr val="4b575f"/>
                </a:solidFill>
                <a:latin typeface="Arial Narrow"/>
              </a:rPr>
              <a:t> Since the depth dimensions of the Knob and the Box are linked together, you only need one of them in the design table.</a:t>
            </a:r>
            <a:endParaRPr b="0" lang="en-US" sz="2000" spc="-1" strike="noStrike">
              <a:solidFill>
                <a:srgbClr val="4b575f"/>
              </a:solidFill>
              <a:latin typeface="Arial Narrow"/>
            </a:endParaRPr>
          </a:p>
          <a:p>
            <a:pPr lvl="1" marL="91584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196637"/>
                </a:solidFill>
                <a:latin typeface="Arial Narrow"/>
              </a:rPr>
              <a:t>Excel tip:</a:t>
            </a:r>
            <a:r>
              <a:rPr b="0" lang="en-US" sz="2000" spc="-1" strike="noStrike">
                <a:solidFill>
                  <a:srgbClr val="4b575f"/>
                </a:solidFill>
                <a:latin typeface="Arial Narrow"/>
              </a:rPr>
              <a:t> Dimension names tend to be very long. Use the Excel command Format, Cells, and click Wrap Text on the Alignment tab.</a:t>
            </a:r>
            <a:endParaRPr b="0" lang="en-US" sz="20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88" name="Picture 5" descr="5FINTAB3"/>
          <p:cNvPicPr/>
          <p:nvPr/>
        </p:nvPicPr>
        <p:blipFill>
          <a:blip r:embed="rId1"/>
          <a:stretch/>
        </p:blipFill>
        <p:spPr>
          <a:xfrm>
            <a:off x="1676520" y="3048120"/>
            <a:ext cx="6024600" cy="1477800"/>
          </a:xfrm>
          <a:prstGeom prst="rect">
            <a:avLst/>
          </a:prstGeom>
          <a:ln w="38160">
            <a:solidFill>
              <a:srgbClr val="f9c85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2000"/>
                                        <p:tgtEl>
                                          <p:spTgt spid="9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Inserting a New Design Tabl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899640" y="1371240"/>
            <a:ext cx="789156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Enter new configuration names in column A: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806400" indent="-34920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Replace Default with blk1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806400" indent="-34920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Fill cells A4 through A6 with blk2, blk3, and blk4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Fill in the dimension values as shown below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91" name="Picture 5" descr="5FINTAB4"/>
          <p:cNvPicPr/>
          <p:nvPr/>
        </p:nvPicPr>
        <p:blipFill>
          <a:blip r:embed="rId1"/>
          <a:stretch/>
        </p:blipFill>
        <p:spPr>
          <a:xfrm>
            <a:off x="1143000" y="3581280"/>
            <a:ext cx="6627960" cy="1798920"/>
          </a:xfrm>
          <a:prstGeom prst="rect">
            <a:avLst/>
          </a:prstGeom>
          <a:ln w="38160">
            <a:solidFill>
              <a:srgbClr val="f9c85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9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9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9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9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Close the Excel Workshee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837720" y="1296720"/>
            <a:ext cx="76201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5000"/>
              </a:lnSpc>
              <a:spcBef>
                <a:spcPts val="1500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in the graphics area outside the workshee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The system builds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the configuration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OK.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The Design Table is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embedded and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stored in the part document.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The design table icon appears in the FeatureManager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Save the part documen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94" name="Picture 7" descr="DT_Icon"/>
          <p:cNvPicPr/>
          <p:nvPr/>
        </p:nvPicPr>
        <p:blipFill>
          <a:blip r:embed="rId1"/>
          <a:stretch/>
        </p:blipFill>
        <p:spPr>
          <a:xfrm>
            <a:off x="3276720" y="3429000"/>
            <a:ext cx="914400" cy="200160"/>
          </a:xfrm>
          <a:prstGeom prst="rect">
            <a:avLst/>
          </a:prstGeom>
          <a:ln w="28440">
            <a:solidFill>
              <a:srgbClr val="f9c852"/>
            </a:solidFill>
            <a:miter/>
          </a:ln>
        </p:spPr>
      </p:pic>
      <p:pic>
        <p:nvPicPr>
          <p:cNvPr id="995" name="Picture 8" descr="DTNewConfig"/>
          <p:cNvPicPr/>
          <p:nvPr/>
        </p:nvPicPr>
        <p:blipFill>
          <a:blip r:embed="rId2"/>
          <a:stretch/>
        </p:blipFill>
        <p:spPr>
          <a:xfrm>
            <a:off x="4648320" y="1905120"/>
            <a:ext cx="33145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9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9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9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9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9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9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View Part Configuration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899640" y="1294920"/>
            <a:ext cx="789156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the Configuration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Manager tab        at th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top of the FeatureManager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window. The list of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onfigurations is displaye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Double-click each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onfiguration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spcBef>
                <a:spcPts val="601"/>
              </a:spcBef>
              <a:buClr>
                <a:srgbClr val="4b575f"/>
              </a:buClr>
              <a:buFont typeface="Arial Narrow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98" name="Picture 12" descr="tree-Configs"/>
          <p:cNvPicPr/>
          <p:nvPr/>
        </p:nvPicPr>
        <p:blipFill>
          <a:blip r:embed="rId1"/>
          <a:stretch/>
        </p:blipFill>
        <p:spPr>
          <a:xfrm>
            <a:off x="4724280" y="1371600"/>
            <a:ext cx="2286000" cy="4441680"/>
          </a:xfrm>
          <a:prstGeom prst="rect">
            <a:avLst/>
          </a:prstGeom>
          <a:ln w="0">
            <a:noFill/>
          </a:ln>
        </p:spPr>
      </p:pic>
      <p:pic>
        <p:nvPicPr>
          <p:cNvPr id="999" name="Picture 11" descr="ConfigManTab"/>
          <p:cNvPicPr/>
          <p:nvPr/>
        </p:nvPicPr>
        <p:blipFill>
          <a:blip r:embed="rId2"/>
          <a:stretch/>
        </p:blipFill>
        <p:spPr>
          <a:xfrm>
            <a:off x="3017880" y="1676520"/>
            <a:ext cx="411120" cy="353880"/>
          </a:xfrm>
          <a:prstGeom prst="rect">
            <a:avLst/>
          </a:prstGeom>
          <a:ln w="0">
            <a:noFill/>
          </a:ln>
        </p:spPr>
      </p:pic>
      <p:pic>
        <p:nvPicPr>
          <p:cNvPr id="1000" name="Picture 10" descr="Configs"/>
          <p:cNvPicPr/>
          <p:nvPr/>
        </p:nvPicPr>
        <p:blipFill>
          <a:blip r:embed="rId3"/>
          <a:stretch/>
        </p:blipFill>
        <p:spPr>
          <a:xfrm>
            <a:off x="7108920" y="1371600"/>
            <a:ext cx="188280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Viewing Part Configuration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899640" y="1066680"/>
            <a:ext cx="789156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The part is automatically rebuilt using the dimension values from the design tabl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1003" name="Picture 8" descr="BLK1"/>
          <p:cNvPicPr/>
          <p:nvPr/>
        </p:nvPicPr>
        <p:blipFill>
          <a:blip r:embed="rId1"/>
          <a:stretch/>
        </p:blipFill>
        <p:spPr>
          <a:xfrm>
            <a:off x="2211480" y="19051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9" descr="BLK4"/>
          <p:cNvPicPr/>
          <p:nvPr/>
        </p:nvPicPr>
        <p:blipFill>
          <a:blip r:embed="rId2"/>
          <a:stretch/>
        </p:blipFill>
        <p:spPr>
          <a:xfrm>
            <a:off x="5108400" y="19051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10" descr="BLK2"/>
          <p:cNvPicPr/>
          <p:nvPr/>
        </p:nvPicPr>
        <p:blipFill>
          <a:blip r:embed="rId3"/>
          <a:stretch/>
        </p:blipFill>
        <p:spPr>
          <a:xfrm>
            <a:off x="2055960" y="4191120"/>
            <a:ext cx="2724120" cy="228420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11" descr="BLK3"/>
          <p:cNvPicPr/>
          <p:nvPr/>
        </p:nvPicPr>
        <p:blipFill>
          <a:blip r:embed="rId4"/>
          <a:stretch/>
        </p:blipFill>
        <p:spPr>
          <a:xfrm>
            <a:off x="5410080" y="4191120"/>
            <a:ext cx="178272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Design Table Overview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838080" y="1296720"/>
            <a:ext cx="56548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esign Tables can control the state of a featur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tate of a feature can b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suppressed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or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unsuppressed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(also called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resolved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). A suppressed feature is not rebuilt or displaye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esign Tables requires Microsoft Excel application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53" name="Picture 4" descr=""/>
          <p:cNvPicPr/>
          <p:nvPr/>
        </p:nvPicPr>
        <p:blipFill>
          <a:blip r:embed="rId1"/>
          <a:stretch/>
        </p:blipFill>
        <p:spPr>
          <a:xfrm>
            <a:off x="6413400" y="990720"/>
            <a:ext cx="2281320" cy="232560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6" descr=""/>
          <p:cNvPicPr/>
          <p:nvPr/>
        </p:nvPicPr>
        <p:blipFill>
          <a:blip r:embed="rId2"/>
          <a:stretch/>
        </p:blipFill>
        <p:spPr>
          <a:xfrm>
            <a:off x="6413400" y="3457440"/>
            <a:ext cx="2273400" cy="2360880"/>
          </a:xfrm>
          <a:prstGeom prst="rect">
            <a:avLst/>
          </a:prstGeom>
          <a:ln w="0">
            <a:noFill/>
          </a:ln>
        </p:spPr>
      </p:pic>
      <p:sp>
        <p:nvSpPr>
          <p:cNvPr id="855" name="Text Box 8"/>
          <p:cNvSpPr/>
          <p:nvPr/>
        </p:nvSpPr>
        <p:spPr>
          <a:xfrm>
            <a:off x="4951080" y="5865840"/>
            <a:ext cx="295812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96637"/>
                </a:solidFill>
                <a:latin typeface="Arial"/>
              </a:rPr>
              <a:t>Center hole suppressed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Design Tables Requir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85800" y="53341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6637"/>
                </a:solidFill>
                <a:latin typeface="Arial"/>
                <a:ea typeface="Arial"/>
              </a:rPr>
              <a:t>Tip:</a:t>
            </a:r>
            <a:r>
              <a:rPr b="0" lang="en-US" sz="2000" spc="-1" strike="noStrike">
                <a:solidFill>
                  <a:srgbClr val="4b575f"/>
                </a:solidFill>
                <a:latin typeface="Arial"/>
                <a:ea typeface="Arial"/>
              </a:rPr>
              <a:t>   Rename features and dimensions before creating a  design table.</a:t>
            </a:r>
            <a:endParaRPr b="0" lang="en-US" sz="2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58" name="Picture 4" descr=""/>
          <p:cNvPicPr/>
          <p:nvPr/>
        </p:nvPicPr>
        <p:blipFill>
          <a:blip r:embed="rId1"/>
          <a:stretch/>
        </p:blipFill>
        <p:spPr>
          <a:xfrm>
            <a:off x="438120" y="2143080"/>
            <a:ext cx="7862760" cy="2286000"/>
          </a:xfrm>
          <a:prstGeom prst="rect">
            <a:avLst/>
          </a:prstGeom>
          <a:ln w="0">
            <a:noFill/>
          </a:ln>
        </p:spPr>
      </p:pic>
      <p:sp>
        <p:nvSpPr>
          <p:cNvPr id="859" name="Text Box 6"/>
          <p:cNvSpPr/>
          <p:nvPr/>
        </p:nvSpPr>
        <p:spPr>
          <a:xfrm>
            <a:off x="3042000" y="4724280"/>
            <a:ext cx="21520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Configuration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0" name="Text Box 7"/>
          <p:cNvSpPr/>
          <p:nvPr/>
        </p:nvSpPr>
        <p:spPr>
          <a:xfrm>
            <a:off x="3652560" y="1295280"/>
            <a:ext cx="42580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Dimension and/or Feature names</a:t>
            </a:r>
            <a:br>
              <a:rPr sz="1800"/>
            </a:b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or special keywords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1" name="Text Box 8"/>
          <p:cNvSpPr/>
          <p:nvPr/>
        </p:nvSpPr>
        <p:spPr>
          <a:xfrm>
            <a:off x="6625080" y="4724280"/>
            <a:ext cx="13870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Values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862" name="Group 11"/>
          <p:cNvGrpSpPr/>
          <p:nvPr/>
        </p:nvGrpSpPr>
        <p:grpSpPr>
          <a:xfrm>
            <a:off x="2971440" y="1447920"/>
            <a:ext cx="914400" cy="1447560"/>
            <a:chOff x="2971440" y="1447920"/>
            <a:chExt cx="914400" cy="1447560"/>
          </a:xfrm>
        </p:grpSpPr>
        <p:sp>
          <p:nvSpPr>
            <p:cNvPr id="863" name="Line 9"/>
            <p:cNvSpPr/>
            <p:nvPr/>
          </p:nvSpPr>
          <p:spPr>
            <a:xfrm flipH="1">
              <a:off x="3580920" y="1447920"/>
              <a:ext cx="30492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64" name="Line 10"/>
            <p:cNvSpPr/>
            <p:nvPr/>
          </p:nvSpPr>
          <p:spPr>
            <a:xfrm flipH="1">
              <a:off x="2971440" y="1447920"/>
              <a:ext cx="609480" cy="144756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65" name="Group 16"/>
          <p:cNvGrpSpPr/>
          <p:nvPr/>
        </p:nvGrpSpPr>
        <p:grpSpPr>
          <a:xfrm>
            <a:off x="1752480" y="4038120"/>
            <a:ext cx="1524240" cy="838800"/>
            <a:chOff x="1752480" y="4038120"/>
            <a:chExt cx="1524240" cy="838800"/>
          </a:xfrm>
        </p:grpSpPr>
        <p:sp>
          <p:nvSpPr>
            <p:cNvPr id="866" name="Line 14"/>
            <p:cNvSpPr/>
            <p:nvPr/>
          </p:nvSpPr>
          <p:spPr>
            <a:xfrm flipH="1">
              <a:off x="2743200" y="4876920"/>
              <a:ext cx="53352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67" name="Line 15"/>
            <p:cNvSpPr/>
            <p:nvPr/>
          </p:nvSpPr>
          <p:spPr>
            <a:xfrm flipH="1" flipV="1">
              <a:off x="1752480" y="4038120"/>
              <a:ext cx="990720" cy="83844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68" name="Group 17"/>
          <p:cNvGrpSpPr/>
          <p:nvPr/>
        </p:nvGrpSpPr>
        <p:grpSpPr>
          <a:xfrm>
            <a:off x="5333760" y="4038120"/>
            <a:ext cx="1523520" cy="838800"/>
            <a:chOff x="5333760" y="4038120"/>
            <a:chExt cx="1523520" cy="838800"/>
          </a:xfrm>
        </p:grpSpPr>
        <p:sp>
          <p:nvSpPr>
            <p:cNvPr id="869" name="Line 18"/>
            <p:cNvSpPr/>
            <p:nvPr/>
          </p:nvSpPr>
          <p:spPr>
            <a:xfrm flipH="1">
              <a:off x="6324120" y="4876920"/>
              <a:ext cx="53316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70" name="Line 19"/>
            <p:cNvSpPr/>
            <p:nvPr/>
          </p:nvSpPr>
          <p:spPr>
            <a:xfrm flipH="1" flipV="1">
              <a:off x="5333760" y="4038120"/>
              <a:ext cx="990360" cy="83844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695016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Rename Features and Dimension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eature and Dimension names used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in a Design Table should be renamed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o better describe their function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Which is easier to understand?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499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575f"/>
                </a:solidFill>
                <a:latin typeface="Arial Narrow"/>
              </a:rPr>
              <a:t>D1@Cut-Extrude1</a:t>
            </a:r>
            <a:endParaRPr b="0" lang="en-US" sz="20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499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575f"/>
                </a:solidFill>
                <a:latin typeface="Arial Narrow"/>
              </a:rPr>
              <a:t>Width@Oval_Slot</a:t>
            </a:r>
            <a:endParaRPr b="0" lang="en-US" sz="2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73" name="Picture 4" descr=""/>
          <p:cNvPicPr/>
          <p:nvPr/>
        </p:nvPicPr>
        <p:blipFill>
          <a:blip r:embed="rId1"/>
          <a:stretch/>
        </p:blipFill>
        <p:spPr>
          <a:xfrm>
            <a:off x="5262480" y="1143000"/>
            <a:ext cx="3348000" cy="486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8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8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Rename a Featur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837720" y="1296720"/>
            <a:ext cx="55753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-pause-click on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Extrude1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in the FeatureManager design tree (do not double-click)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ip: Instead of the click-pause-click technique, you can select the feature, and then press the function key F2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feature name is highlighted in blue, ready to be edite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ype the new name,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Box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, and press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Enter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76" name="Picture 6" descr="RenameFeature"/>
          <p:cNvPicPr/>
          <p:nvPr/>
        </p:nvPicPr>
        <p:blipFill>
          <a:blip r:embed="rId1"/>
          <a:stretch/>
        </p:blipFill>
        <p:spPr>
          <a:xfrm>
            <a:off x="6553080" y="1371600"/>
            <a:ext cx="2184480" cy="407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Rename the Other Features Used in the Design Tabl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5334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ename Extrude2 to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Knob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enam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Cut-Extrude1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to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Hole_in_knob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enam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Fillet1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to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Outside_corner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79" name="Picture 8" descr="RenameFeature2"/>
          <p:cNvPicPr/>
          <p:nvPr/>
        </p:nvPicPr>
        <p:blipFill>
          <a:blip r:embed="rId1"/>
          <a:stretch/>
        </p:blipFill>
        <p:spPr>
          <a:xfrm>
            <a:off x="6553080" y="1371600"/>
            <a:ext cx="2194200" cy="405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Display Feature Dimension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914400" y="1296720"/>
            <a:ext cx="49528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ight-click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Annotation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folder, and select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Show Feature Dimension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from the shortcut menu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82" name="Picture 6" descr=""/>
          <p:cNvPicPr/>
          <p:nvPr/>
        </p:nvPicPr>
        <p:blipFill>
          <a:blip r:embed="rId1"/>
          <a:stretch/>
        </p:blipFill>
        <p:spPr>
          <a:xfrm>
            <a:off x="2514600" y="3809880"/>
            <a:ext cx="2643120" cy="2354400"/>
          </a:xfrm>
          <a:prstGeom prst="rect">
            <a:avLst/>
          </a:prstGeom>
          <a:ln w="0">
            <a:noFill/>
          </a:ln>
        </p:spPr>
      </p:pic>
      <p:pic>
        <p:nvPicPr>
          <p:cNvPr id="883" name="Picture 8" descr="DisplayDims"/>
          <p:cNvPicPr/>
          <p:nvPr/>
        </p:nvPicPr>
        <p:blipFill>
          <a:blip r:embed="rId2"/>
          <a:stretch/>
        </p:blipFill>
        <p:spPr>
          <a:xfrm>
            <a:off x="5902200" y="1066680"/>
            <a:ext cx="2175120" cy="270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30T20:12:14Z</dcterms:created>
  <dc:creator>jmatsumoto</dc:creator>
  <dc:description/>
  <dc:language>en-US</dc:language>
  <cp:lastModifiedBy>ECES21</cp:lastModifiedBy>
  <dcterms:modified xsi:type="dcterms:W3CDTF">2013-10-29T18:58:20Z</dcterms:modified>
  <cp:revision>70</cp:revision>
  <dc:subject/>
  <dc:title>Presentation Title</dc:title>
</cp:coreProperties>
</file>