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47.png" ContentType="image/png"/>
  <Override PartName="/ppt/media/image10.png" ContentType="image/png"/>
  <Override PartName="/ppt/media/image14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7.wmf" ContentType="image/x-wmf"/>
  <Override PartName="/ppt/media/image38.wmf" ContentType="image/x-wmf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2ED7-5920-4594-8BC2-22F785CA68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BB32-AD9D-430A-B72F-6528A4F3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61D1-B3F0-4427-A781-6F7ED125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4511-0494-496E-AD25-D10BCAAE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E204-5660-47BF-AA4B-7A60490F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D5EC-4F7F-4DEC-8050-E62D5874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6118-89F9-45E5-A230-E69B9806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4E3F-E5DE-47C4-854E-B9C0AC16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27F8-5185-4CEB-B00B-6B96627D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1657-40A6-4B16-91A8-3BE30D3C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4D23-EA7A-4152-93A0-1276B515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86C5-5F0B-4F9E-B70F-07C459F60B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2A327-D6A1-40AE-BE10-2329298A8F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4A613-D3F5-4960-A403-567B8818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B9899-AFBF-4D0B-8B1B-54AC4F04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A1F67-BB73-4BCB-9F98-62F4A016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D4908-781E-47FC-9007-F245E89A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020EA-1D60-45E7-BF22-B7E4E0E7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C82C8-3F1A-41C9-B4C2-E7D9B49F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CFA56-F16F-4B84-BD45-DD8E0EFB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C2F3D-5991-42AF-8BF1-5F82C327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36DA0-F96A-468D-9706-4A79CF59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FA2AC-42F2-4DBC-BB7E-A735A1A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946F9-70F8-4CA2-AE29-ED0FB46E55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B006-FE8F-4D14-A643-1DCE04550D5C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A631-A2A0-4058-8AB5-ADA25F418934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2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2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6611-AF2F-431E-A73C-5808353392C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7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72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DBF3-1F42-4451-847E-97C451599D7F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1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EE8B-546F-4EDF-B829-C613FC68AC1C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6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6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6F3A-B7FD-43BA-A118-1CBBE5521CF7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1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1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6140-612A-4394-96F4-1CE8287F6DF7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5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5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A7BF-714F-4D28-8934-5FCD1269982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0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0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1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A805-9DE9-49E9-8462-31BAAC6743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7C1B-FC2D-410B-988E-2BE8C81B5FC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4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5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5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5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EB49-2A28-4215-9D58-E70A82FCAB3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9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9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9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9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b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b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6200-D454-4F26-9EFB-A5F69F3EDE99}" type="slidenum">
              <a:rPr b="0" lang="en-US" sz="2400" spc="-1" strike="noStrike">
                <a:solidFill>
                  <a:srgbClr val="4b575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78AB-AF3F-48D7-A3DD-C811FA7B21DF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8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0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3F8B-7DD1-4D40-8D3C-A8A8E21238B2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3240" y="12600"/>
            <a:ext cx="9140760" cy="6854760"/>
            <a:chOff x="3240" y="12600"/>
            <a:chExt cx="9140760" cy="6854760"/>
          </a:xfrm>
        </p:grpSpPr>
        <p:pic>
          <p:nvPicPr>
            <p:cNvPr id="91" name="Picture 3" descr="12173-SolidWorks-cov"/>
            <p:cNvPicPr/>
            <p:nvPr/>
          </p:nvPicPr>
          <p:blipFill>
            <a:blip r:embed="rId4"/>
            <a:stretch/>
          </p:blipFill>
          <p:spPr>
            <a:xfrm>
              <a:off x="3240" y="1260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6370560" y="6304680"/>
              <a:ext cx="24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9c8e80"/>
                  </a:solidFill>
                  <a:latin typeface="Arial"/>
                </a:rPr>
                <a:t>Image courtesy of National Optical Astronomy Observatory, operated by the Association of Universities for Research in Astronomy, under cooperative agreement with the National Science Foundation.</a:t>
              </a:r>
              <a:endParaRPr b="1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3" name="Picture 5" descr="swlogcol"/>
            <p:cNvPicPr/>
            <p:nvPr/>
          </p:nvPicPr>
          <p:blipFill>
            <a:blip r:embed="rId5"/>
            <a:stretch/>
          </p:blipFill>
          <p:spPr>
            <a:xfrm>
              <a:off x="7437600" y="442800"/>
              <a:ext cx="1338120" cy="7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1636-F7D1-4232-8D88-4F3E7829BCAF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3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8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F492-E61F-4623-9731-9761A46C19C5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1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85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7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90BC-BF51-4DDA-A290-2C04019090D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8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1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32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AC73-4099-43FC-8CF6-0DF00B54186F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7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3037-8098-4F62-9729-96F55A3D65B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2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2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0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9856-F073-4427-BFD0-4BDFAE61AA2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3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7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7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0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8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8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8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8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86920" y="144792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75f"/>
                </a:solidFill>
                <a:latin typeface="Arial Narrow"/>
              </a:rPr>
              <a:t>Instructor’s Guide to Teaching SolidWorks Software Lesson 8</a:t>
            </a:r>
            <a:endParaRPr b="1" lang="en-US" sz="32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11280" y="2666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rly College E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s. Sparnel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62120" y="2667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Hide All the Feature Dimensions for a Selected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51055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feature in the FeatureManager design tree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Hide All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6" name="Picture 6" descr="HideDim"/>
          <p:cNvPicPr/>
          <p:nvPr/>
        </p:nvPicPr>
        <p:blipFill>
          <a:blip r:embed="rId1"/>
          <a:stretch/>
        </p:blipFill>
        <p:spPr>
          <a:xfrm>
            <a:off x="6022800" y="1371600"/>
            <a:ext cx="2130480" cy="458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6" descr="HideDim2"/>
          <p:cNvPicPr/>
          <p:nvPr/>
        </p:nvPicPr>
        <p:blipFill>
          <a:blip r:embed="rId1"/>
          <a:stretch/>
        </p:blipFill>
        <p:spPr>
          <a:xfrm>
            <a:off x="3809880" y="1371600"/>
            <a:ext cx="5257800" cy="429588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Hide Individual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296720"/>
            <a:ext cx="3657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dimension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Hid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22240" y="266760"/>
            <a:ext cx="70264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Display Dimension Nam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3504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Tool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p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Genera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ystem Op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ab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how dimension nam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2" name="Picture 4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76560" cy="38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Rename a Dimensio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5486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isplay the dimens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ither double-click the feature to display its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Or, right-click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nnot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older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how Feature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the 70mm diameter dimension, and in the PropertyManager, rename the dimension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knob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then click OK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Note: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“@Sketch2” is automatically added to the dimension nam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5" name="Picture 6" descr="renameDim"/>
          <p:cNvPicPr/>
          <p:nvPr/>
        </p:nvPicPr>
        <p:blipFill>
          <a:blip r:embed="rId1"/>
          <a:stretch/>
        </p:blipFill>
        <p:spPr>
          <a:xfrm>
            <a:off x="6934320" y="1295280"/>
            <a:ext cx="1461960" cy="4776840"/>
          </a:xfrm>
          <a:prstGeom prst="rect">
            <a:avLst/>
          </a:prstGeom>
          <a:ln w="0">
            <a:noFill/>
          </a:ln>
        </p:spPr>
      </p:pic>
      <p:sp>
        <p:nvSpPr>
          <p:cNvPr id="896" name="Oval 8"/>
          <p:cNvSpPr/>
          <p:nvPr/>
        </p:nvSpPr>
        <p:spPr>
          <a:xfrm>
            <a:off x="7010280" y="3505320"/>
            <a:ext cx="1143000" cy="228600"/>
          </a:xfrm>
          <a:prstGeom prst="ellipse">
            <a:avLst/>
          </a:prstGeom>
          <a:noFill/>
          <a:ln w="28440">
            <a:solidFill>
              <a:srgbClr val="55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4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249440" cy="362124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these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114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Height of the box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_heigh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idth of the box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_wid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ameter of the hole in the knob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adius of outside corners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_radiu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Inten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1" name="Picture 4" descr=""/>
          <p:cNvPicPr/>
          <p:nvPr/>
        </p:nvPicPr>
        <p:blipFill>
          <a:blip r:embed="rId1"/>
          <a:stretch/>
        </p:blipFill>
        <p:spPr>
          <a:xfrm>
            <a:off x="4726080" y="1433520"/>
            <a:ext cx="4002120" cy="458928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160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depth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should always be equal to the depth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(the base feature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should always be centered on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mensions alone are not always the best way to capture design int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Valu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command relates dimensions to each other through shared variable nam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f the value of one linked dimension is modified, then all of the linked dimensions are modifi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s excellent for making feature dimensions equal to each oth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is an important tool for capturing design int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Uses for Link Valu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01600" y="1296720"/>
            <a:ext cx="3618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ickness of the square and the two tabs is always equa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width of both slots is always equa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07" name="Group 10"/>
          <p:cNvGrpSpPr/>
          <p:nvPr/>
        </p:nvGrpSpPr>
        <p:grpSpPr>
          <a:xfrm>
            <a:off x="3819600" y="1297080"/>
            <a:ext cx="4943160" cy="4493880"/>
            <a:chOff x="3819600" y="1297080"/>
            <a:chExt cx="4943160" cy="4493880"/>
          </a:xfrm>
        </p:grpSpPr>
        <p:pic>
          <p:nvPicPr>
            <p:cNvPr id="908" name="Picture 4" descr=""/>
            <p:cNvPicPr/>
            <p:nvPr/>
          </p:nvPicPr>
          <p:blipFill>
            <a:blip r:embed="rId1"/>
            <a:stretch/>
          </p:blipFill>
          <p:spPr>
            <a:xfrm>
              <a:off x="3893400" y="1297080"/>
              <a:ext cx="2360880" cy="18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6" descr=""/>
            <p:cNvPicPr/>
            <p:nvPr/>
          </p:nvPicPr>
          <p:blipFill>
            <a:blip r:embed="rId2"/>
            <a:stretch/>
          </p:blipFill>
          <p:spPr>
            <a:xfrm>
              <a:off x="6401880" y="1364760"/>
              <a:ext cx="2360880" cy="160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8" descr=""/>
            <p:cNvPicPr/>
            <p:nvPr/>
          </p:nvPicPr>
          <p:blipFill>
            <a:blip r:embed="rId3"/>
            <a:stretch/>
          </p:blipFill>
          <p:spPr>
            <a:xfrm>
              <a:off x="3819600" y="3475800"/>
              <a:ext cx="2490120" cy="231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9" descr=""/>
            <p:cNvPicPr/>
            <p:nvPr/>
          </p:nvPicPr>
          <p:blipFill>
            <a:blip r:embed="rId4"/>
            <a:stretch/>
          </p:blipFill>
          <p:spPr>
            <a:xfrm>
              <a:off x="6401880" y="3475800"/>
              <a:ext cx="2357640" cy="231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79250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 the Depth of the Box to the Depth of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638600" cy="270540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6" descr="linkvalues"/>
          <p:cNvPicPr/>
          <p:nvPr/>
        </p:nvPicPr>
        <p:blipFill>
          <a:blip r:embed="rId2"/>
          <a:stretch/>
        </p:blipFill>
        <p:spPr>
          <a:xfrm>
            <a:off x="6705720" y="2362320"/>
            <a:ext cx="2047680" cy="24048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1296720"/>
            <a:ext cx="3962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play the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on the depth dimension for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select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to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296720"/>
            <a:ext cx="39146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yp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i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Nam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ext box and then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Right-click on the depth dimension for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8" name="Picture 9" descr=""/>
          <p:cNvPicPr/>
          <p:nvPr/>
        </p:nvPicPr>
        <p:blipFill>
          <a:blip r:embed="rId1"/>
          <a:stretch/>
        </p:blipFill>
        <p:spPr>
          <a:xfrm>
            <a:off x="5418000" y="1297080"/>
            <a:ext cx="2617920" cy="2354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1" descr="LinkValues"/>
          <p:cNvPicPr/>
          <p:nvPr/>
        </p:nvPicPr>
        <p:blipFill>
          <a:blip r:embed="rId2"/>
          <a:stretch/>
        </p:blipFill>
        <p:spPr>
          <a:xfrm>
            <a:off x="5410080" y="3886200"/>
            <a:ext cx="2048040" cy="24051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2" descr="sharedValue"/>
          <p:cNvPicPr/>
          <p:nvPr/>
        </p:nvPicPr>
        <p:blipFill>
          <a:blip r:embed="rId3"/>
          <a:stretch/>
        </p:blipFill>
        <p:spPr>
          <a:xfrm>
            <a:off x="4800600" y="1447920"/>
            <a:ext cx="3573360" cy="9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Families of Par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4471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ny times parts come in a variety of siz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is called a family of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 is not efficient to build each version individu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simplify making families of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844" name="Group 10"/>
          <p:cNvGrpSpPr/>
          <p:nvPr/>
        </p:nvGrpSpPr>
        <p:grpSpPr>
          <a:xfrm>
            <a:off x="5562720" y="1676520"/>
            <a:ext cx="3276360" cy="3352320"/>
            <a:chOff x="5562720" y="1676520"/>
            <a:chExt cx="3276360" cy="3352320"/>
          </a:xfrm>
        </p:grpSpPr>
        <p:pic>
          <p:nvPicPr>
            <p:cNvPr id="845" name="Picture 4" descr=""/>
            <p:cNvPicPr/>
            <p:nvPr/>
          </p:nvPicPr>
          <p:blipFill>
            <a:blip r:embed="rId1"/>
            <a:stretch/>
          </p:blipFill>
          <p:spPr>
            <a:xfrm>
              <a:off x="5574240" y="1727640"/>
              <a:ext cx="1520640" cy="15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6" descr=""/>
            <p:cNvPicPr/>
            <p:nvPr/>
          </p:nvPicPr>
          <p:blipFill>
            <a:blip r:embed="rId2"/>
            <a:stretch/>
          </p:blipFill>
          <p:spPr>
            <a:xfrm>
              <a:off x="7049160" y="1676520"/>
              <a:ext cx="1789920" cy="15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8" descr=""/>
            <p:cNvPicPr/>
            <p:nvPr/>
          </p:nvPicPr>
          <p:blipFill>
            <a:blip r:embed="rId3"/>
            <a:stretch/>
          </p:blipFill>
          <p:spPr>
            <a:xfrm>
              <a:off x="5562720" y="3326760"/>
              <a:ext cx="1536480" cy="15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9" descr=""/>
            <p:cNvPicPr/>
            <p:nvPr/>
          </p:nvPicPr>
          <p:blipFill>
            <a:blip r:embed="rId4"/>
            <a:stretch/>
          </p:blipFill>
          <p:spPr>
            <a:xfrm>
              <a:off x="7255440" y="3223800"/>
              <a:ext cx="140292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to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4954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from the list, and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Both dimensions have the same name and valu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Rebuild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the part to update the geometry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"/>
                <a:ea typeface="Arial"/>
              </a:rPr>
              <a:t>Tip:</a:t>
            </a:r>
            <a:r>
              <a:rPr b="0" lang="en-US" sz="2000" spc="-1" strike="noStrike">
                <a:solidFill>
                  <a:srgbClr val="4b575f"/>
                </a:solidFill>
                <a:latin typeface="Arial"/>
                <a:ea typeface="Arial"/>
              </a:rPr>
              <a:t> Use the CTRL key to select several dimensions at the same time and link them in one step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3" name="Picture 4" descr=""/>
          <p:cNvPicPr/>
          <p:nvPr/>
        </p:nvPicPr>
        <p:blipFill>
          <a:blip r:embed="rId1"/>
          <a:stretch/>
        </p:blipFill>
        <p:spPr>
          <a:xfrm>
            <a:off x="5087880" y="1297080"/>
            <a:ext cx="3278160" cy="2354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8" descr="sharedValue"/>
          <p:cNvPicPr/>
          <p:nvPr/>
        </p:nvPicPr>
        <p:blipFill>
          <a:blip r:embed="rId2"/>
          <a:stretch/>
        </p:blipFill>
        <p:spPr>
          <a:xfrm>
            <a:off x="5181480" y="1371600"/>
            <a:ext cx="3573720" cy="9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late geometry through physical relationships such a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ncentric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radia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idpoin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qua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llinear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inciden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632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ketch Fillet tool automatically creates one radial dimension and 3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Equa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relat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ing the dimension changes all 4 fille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technique is better than having 4 radial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9" name="Picture 4" descr=""/>
          <p:cNvPicPr/>
          <p:nvPr/>
        </p:nvPicPr>
        <p:blipFill>
          <a:blip r:embed="rId1"/>
          <a:stretch/>
        </p:blipFill>
        <p:spPr>
          <a:xfrm>
            <a:off x="5076720" y="1366920"/>
            <a:ext cx="3146400" cy="1915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6" descr=""/>
          <p:cNvPicPr/>
          <p:nvPr/>
        </p:nvPicPr>
        <p:blipFill>
          <a:blip r:embed="rId2"/>
          <a:stretch/>
        </p:blipFill>
        <p:spPr>
          <a:xfrm>
            <a:off x="4916520" y="3803760"/>
            <a:ext cx="362088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31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wo featur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king the circle for the boss Coradial with the edge of the base ensures that the boss will always be the correct size regardless of how the base chang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33" name="Group 13"/>
          <p:cNvGrpSpPr/>
          <p:nvPr/>
        </p:nvGrpSpPr>
        <p:grpSpPr>
          <a:xfrm>
            <a:off x="4038480" y="1143000"/>
            <a:ext cx="4910400" cy="4869000"/>
            <a:chOff x="4038480" y="1143000"/>
            <a:chExt cx="4910400" cy="4869000"/>
          </a:xfrm>
        </p:grpSpPr>
        <p:pic>
          <p:nvPicPr>
            <p:cNvPr id="934" name="Picture 5" descr=""/>
            <p:cNvPicPr/>
            <p:nvPr/>
          </p:nvPicPr>
          <p:blipFill>
            <a:blip r:embed="rId1"/>
            <a:stretch/>
          </p:blipFill>
          <p:spPr>
            <a:xfrm>
              <a:off x="4038480" y="1143000"/>
              <a:ext cx="247176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7" descr=""/>
            <p:cNvPicPr/>
            <p:nvPr/>
          </p:nvPicPr>
          <p:blipFill>
            <a:blip r:embed="rId2"/>
            <a:stretch/>
          </p:blipFill>
          <p:spPr>
            <a:xfrm>
              <a:off x="6553080" y="1219320"/>
              <a:ext cx="239580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9" descr=""/>
            <p:cNvPicPr/>
            <p:nvPr/>
          </p:nvPicPr>
          <p:blipFill>
            <a:blip r:embed="rId3"/>
            <a:stretch/>
          </p:blipFill>
          <p:spPr>
            <a:xfrm>
              <a:off x="4191120" y="4275000"/>
              <a:ext cx="2404800" cy="16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10" descr=""/>
            <p:cNvPicPr/>
            <p:nvPr/>
          </p:nvPicPr>
          <p:blipFill>
            <a:blip r:embed="rId4"/>
            <a:stretch/>
          </p:blipFill>
          <p:spPr>
            <a:xfrm>
              <a:off x="6858000" y="4419720"/>
              <a:ext cx="2057400" cy="15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11" descr=""/>
            <p:cNvPicPr/>
            <p:nvPr/>
          </p:nvPicPr>
          <p:blipFill>
            <a:blip r:embed="rId5"/>
            <a:stretch/>
          </p:blipFill>
          <p:spPr>
            <a:xfrm>
              <a:off x="4724280" y="3809880"/>
              <a:ext cx="3430800" cy="5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Text Box 12"/>
          <p:cNvSpPr/>
          <p:nvPr/>
        </p:nvSpPr>
        <p:spPr>
          <a:xfrm>
            <a:off x="5938920" y="4267080"/>
            <a:ext cx="10652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enter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026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Right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feature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Edit Sketch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     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2" name="Picture 6" descr="EditSketch"/>
          <p:cNvPicPr/>
          <p:nvPr/>
        </p:nvPicPr>
        <p:blipFill>
          <a:blip r:embed="rId1"/>
          <a:stretch/>
        </p:blipFill>
        <p:spPr>
          <a:xfrm>
            <a:off x="4562640" y="1752480"/>
            <a:ext cx="237960" cy="228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7" descr="EditSketchPM"/>
          <p:cNvPicPr/>
          <p:nvPr/>
        </p:nvPicPr>
        <p:blipFill>
          <a:blip r:embed="rId2"/>
          <a:stretch/>
        </p:blipFill>
        <p:spPr>
          <a:xfrm>
            <a:off x="5791320" y="1371600"/>
            <a:ext cx="2104920" cy="49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710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elete the linear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Notice the circle is blue, indicating it is under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rag the circle to one side. Without dimensions to locate it, it is free to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Centerline       , and sketch a diagonal Centerli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6" name="Picture 1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38280" cy="4362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2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338280" cy="4362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4" descr="icon_centerline"/>
          <p:cNvPicPr/>
          <p:nvPr/>
        </p:nvPicPr>
        <p:blipFill>
          <a:blip r:embed="rId3"/>
          <a:stretch/>
        </p:blipFill>
        <p:spPr>
          <a:xfrm>
            <a:off x="3220920" y="3962520"/>
            <a:ext cx="28440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8" descr="icon_add_relation"/>
          <p:cNvPicPr/>
          <p:nvPr/>
        </p:nvPicPr>
        <p:blipFill>
          <a:blip r:embed="rId1"/>
          <a:stretch/>
        </p:blipFill>
        <p:spPr>
          <a:xfrm>
            <a:off x="3657600" y="1252440"/>
            <a:ext cx="284040" cy="27144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5562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dd Relation 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elect the centerline and the point at the center of the circl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lnSpc>
                <a:spcPct val="85000"/>
              </a:lnSpc>
              <a:spcBef>
                <a:spcPts val="601"/>
              </a:spcBef>
              <a:buClr>
                <a:srgbClr val="1966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37"/>
                </a:solidFill>
                <a:latin typeface="Arial Narrow"/>
                <a:ea typeface="Arial"/>
              </a:rPr>
              <a:t>Note: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If the centerline is still highlighted when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dd Rel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pens, the line automatically appears i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elected Entiti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list and you do not have to select it agai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If you select the wrong entity, right-click in the graphics area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Clear Selec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2" name="Picture 11" descr="AddRelation2"/>
          <p:cNvPicPr/>
          <p:nvPr/>
        </p:nvPicPr>
        <p:blipFill>
          <a:blip r:embed="rId2"/>
          <a:stretch/>
        </p:blipFill>
        <p:spPr>
          <a:xfrm>
            <a:off x="6553080" y="1295280"/>
            <a:ext cx="182880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4400" y="1296720"/>
            <a:ext cx="3533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Midpoi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and then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pply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and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Clo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circle will now stay centered on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eatur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5" name="Picture 8" descr=""/>
          <p:cNvPicPr/>
          <p:nvPr/>
        </p:nvPicPr>
        <p:blipFill>
          <a:blip r:embed="rId1"/>
          <a:stretch/>
        </p:blipFill>
        <p:spPr>
          <a:xfrm>
            <a:off x="4822920" y="1393920"/>
            <a:ext cx="380844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Rebuil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     to exit the sketch and rebuild the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8" name="Picture 6" descr=""/>
          <p:cNvPicPr/>
          <p:nvPr/>
        </p:nvPicPr>
        <p:blipFill>
          <a:blip r:embed="rId1"/>
          <a:stretch/>
        </p:blipFill>
        <p:spPr>
          <a:xfrm>
            <a:off x="5703840" y="1297080"/>
            <a:ext cx="2046240" cy="2354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8" descr="icon_rebuild"/>
          <p:cNvPicPr/>
          <p:nvPr/>
        </p:nvPicPr>
        <p:blipFill>
          <a:blip r:embed="rId2"/>
          <a:stretch/>
        </p:blipFill>
        <p:spPr>
          <a:xfrm>
            <a:off x="3048120" y="1295280"/>
            <a:ext cx="284040" cy="2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6" descr="DesignTable"/>
          <p:cNvPicPr/>
          <p:nvPr/>
        </p:nvPicPr>
        <p:blipFill>
          <a:blip r:embed="rId1"/>
          <a:stretch/>
        </p:blipFill>
        <p:spPr>
          <a:xfrm>
            <a:off x="6705720" y="1371600"/>
            <a:ext cx="1828800" cy="462924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Insert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7326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Position the part in the lower right hand corner of the graphics area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Inser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Design Tabl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he PropertyManager appea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1500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elect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uto-cre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ption to create a new design table automatically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 Overview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899640" y="1219320"/>
            <a:ext cx="789156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are used to create different configurations of a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at is a Configuration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A configuration is a way to create a family of similar parts within one fi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Each configuration represents one version of the part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automatically change the dimensions and features of an existing part to create multiple configurations. The configurations control the size and shape of a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18" descr="CreateDT"/>
          <p:cNvPicPr/>
          <p:nvPr/>
        </p:nvPicPr>
        <p:blipFill>
          <a:blip r:embed="rId1"/>
          <a:stretch/>
        </p:blipFill>
        <p:spPr>
          <a:xfrm>
            <a:off x="2438280" y="1295280"/>
            <a:ext cx="6363000" cy="490716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79440"/>
            <a:ext cx="830592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65" name="Picture 16" descr="dtDims"/>
          <p:cNvPicPr/>
          <p:nvPr/>
        </p:nvPicPr>
        <p:blipFill>
          <a:blip r:embed="rId2"/>
          <a:stretch/>
        </p:blipFill>
        <p:spPr>
          <a:xfrm>
            <a:off x="457200" y="1066680"/>
            <a:ext cx="2600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Excel worksheet is displayed in the part document window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xcel toolbars replace the SolidWorks toolba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y default, the first configuration is named Default. You can (and should) change this to something more meaningfu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16" descr="PICT0133"/>
          <p:cNvPicPr/>
          <p:nvPr/>
        </p:nvPicPr>
        <p:blipFill>
          <a:blip r:embed="rId1"/>
          <a:stretch/>
        </p:blipFill>
        <p:spPr>
          <a:xfrm>
            <a:off x="301680" y="2211480"/>
            <a:ext cx="8537400" cy="2074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view of a Design Table’s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3042720" y="4724280"/>
            <a:ext cx="29383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Configuration nam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go in this column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1" name="Text Box 5"/>
          <p:cNvSpPr/>
          <p:nvPr/>
        </p:nvSpPr>
        <p:spPr>
          <a:xfrm>
            <a:off x="3865320" y="1295280"/>
            <a:ext cx="4258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Dimension and/or Feature names</a:t>
            </a:r>
            <a:br>
              <a:rPr sz="1800"/>
            </a:b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or special keywords go in this row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2" name="Text Box 6"/>
          <p:cNvSpPr/>
          <p:nvPr/>
        </p:nvSpPr>
        <p:spPr>
          <a:xfrm>
            <a:off x="6471720" y="4800600"/>
            <a:ext cx="234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Values go here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2971440" y="1447920"/>
            <a:ext cx="914400" cy="1447560"/>
            <a:chOff x="2971440" y="1447920"/>
            <a:chExt cx="914400" cy="1447560"/>
          </a:xfrm>
        </p:grpSpPr>
        <p:sp>
          <p:nvSpPr>
            <p:cNvPr id="974" name="Line 8"/>
            <p:cNvSpPr/>
            <p:nvPr/>
          </p:nvSpPr>
          <p:spPr>
            <a:xfrm flipH="1">
              <a:off x="3580920" y="1447920"/>
              <a:ext cx="3049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Line 9"/>
            <p:cNvSpPr/>
            <p:nvPr/>
          </p:nvSpPr>
          <p:spPr>
            <a:xfrm flipH="1">
              <a:off x="2971440" y="1447920"/>
              <a:ext cx="609480" cy="144756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6" name="Group 10"/>
          <p:cNvGrpSpPr/>
          <p:nvPr/>
        </p:nvGrpSpPr>
        <p:grpSpPr>
          <a:xfrm>
            <a:off x="1752480" y="4038120"/>
            <a:ext cx="1524240" cy="838800"/>
            <a:chOff x="1752480" y="4038120"/>
            <a:chExt cx="1524240" cy="838800"/>
          </a:xfrm>
        </p:grpSpPr>
        <p:sp>
          <p:nvSpPr>
            <p:cNvPr id="977" name="Line 11"/>
            <p:cNvSpPr/>
            <p:nvPr/>
          </p:nvSpPr>
          <p:spPr>
            <a:xfrm flipH="1">
              <a:off x="2743200" y="487692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8" name="Line 12"/>
            <p:cNvSpPr/>
            <p:nvPr/>
          </p:nvSpPr>
          <p:spPr>
            <a:xfrm flipH="1" flipV="1">
              <a:off x="1752480" y="4038120"/>
              <a:ext cx="99072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9" name="Group 13"/>
          <p:cNvGrpSpPr/>
          <p:nvPr/>
        </p:nvGrpSpPr>
        <p:grpSpPr>
          <a:xfrm>
            <a:off x="5181480" y="4114800"/>
            <a:ext cx="1524240" cy="838080"/>
            <a:chOff x="5181480" y="4114800"/>
            <a:chExt cx="1524240" cy="838080"/>
          </a:xfrm>
        </p:grpSpPr>
        <p:sp>
          <p:nvSpPr>
            <p:cNvPr id="980" name="Line 14"/>
            <p:cNvSpPr/>
            <p:nvPr/>
          </p:nvSpPr>
          <p:spPr>
            <a:xfrm flipH="1">
              <a:off x="6172200" y="495288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1" name="Line 15"/>
            <p:cNvSpPr/>
            <p:nvPr/>
          </p:nvSpPr>
          <p:spPr>
            <a:xfrm flipH="1" flipV="1">
              <a:off x="5181480" y="4114800"/>
              <a:ext cx="990720" cy="8380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80880" y="121932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_wid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dimens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full dimension name is inserted into cell B2. The dimension value is inserted into cell B3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next cell, C2, is automatically selected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_heigh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dimens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4" name="Picture 7" descr="5TABFIR"/>
          <p:cNvPicPr/>
          <p:nvPr/>
        </p:nvPicPr>
        <p:blipFill>
          <a:blip r:embed="rId1"/>
          <a:stretch/>
        </p:blipFill>
        <p:spPr>
          <a:xfrm>
            <a:off x="6019920" y="2438280"/>
            <a:ext cx="2504880" cy="11811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8" descr="5FINTAB2"/>
          <p:cNvPicPr/>
          <p:nvPr/>
        </p:nvPicPr>
        <p:blipFill>
          <a:blip r:embed="rId2"/>
          <a:stretch/>
        </p:blipFill>
        <p:spPr>
          <a:xfrm>
            <a:off x="5791320" y="4495680"/>
            <a:ext cx="28573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peat this process for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_radiu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915840" indent="-457200">
              <a:spcBef>
                <a:spcPts val="499"/>
              </a:spcBef>
              <a:buClr>
                <a:srgbClr val="19663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 Narrow"/>
              </a:rPr>
              <a:t>Note: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 Since the depth dimensions of the Knob and the Box are linked together, you only need one of them in the design tab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1" marL="9158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196637"/>
                </a:solidFill>
                <a:latin typeface="Arial Narrow"/>
              </a:rPr>
              <a:t>Excel tip: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 Dimension names tend to be very long. Use the Excel command Format, Cells, and click Wrap Text on the Alignment tab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8" name="Picture 5" descr="5FINTAB3"/>
          <p:cNvPicPr/>
          <p:nvPr/>
        </p:nvPicPr>
        <p:blipFill>
          <a:blip r:embed="rId1"/>
          <a:stretch/>
        </p:blipFill>
        <p:spPr>
          <a:xfrm>
            <a:off x="1676520" y="3048120"/>
            <a:ext cx="6024600" cy="1477800"/>
          </a:xfrm>
          <a:prstGeom prst="rect">
            <a:avLst/>
          </a:prstGeom>
          <a:ln w="38160">
            <a:solidFill>
              <a:srgbClr val="f9c8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nter new configuration names in column A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Replace Default with blk1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Fill cells A4 through A6 with blk2, blk3, and blk4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Fill in the dimension values as shown below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1" name="Picture 5" descr="5FINTAB4"/>
          <p:cNvPicPr/>
          <p:nvPr/>
        </p:nvPicPr>
        <p:blipFill>
          <a:blip r:embed="rId1"/>
          <a:stretch/>
        </p:blipFill>
        <p:spPr>
          <a:xfrm>
            <a:off x="1143000" y="3581280"/>
            <a:ext cx="6627960" cy="1798920"/>
          </a:xfrm>
          <a:prstGeom prst="rect">
            <a:avLst/>
          </a:prstGeom>
          <a:ln w="38160">
            <a:solidFill>
              <a:srgbClr val="f9c8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lose the Excel Workshee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837720" y="1296720"/>
            <a:ext cx="76201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500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in the graphics area outside the workshe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system builds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he configurat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OK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Design Table i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mbedded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tored in the part document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design table icon appears in the FeatureManag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ave the part docum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4" name="Picture 7" descr="DT_Icon"/>
          <p:cNvPicPr/>
          <p:nvPr/>
        </p:nvPicPr>
        <p:blipFill>
          <a:blip r:embed="rId1"/>
          <a:stretch/>
        </p:blipFill>
        <p:spPr>
          <a:xfrm>
            <a:off x="3276720" y="3429000"/>
            <a:ext cx="914400" cy="200160"/>
          </a:xfrm>
          <a:prstGeom prst="rect">
            <a:avLst/>
          </a:prstGeom>
          <a:ln w="28440">
            <a:solidFill>
              <a:srgbClr val="f9c852"/>
            </a:solidFill>
            <a:miter/>
          </a:ln>
        </p:spPr>
      </p:pic>
      <p:pic>
        <p:nvPicPr>
          <p:cNvPr id="995" name="Picture 8" descr="DTNewConfig"/>
          <p:cNvPicPr/>
          <p:nvPr/>
        </p:nvPicPr>
        <p:blipFill>
          <a:blip r:embed="rId2"/>
          <a:stretch/>
        </p:blipFill>
        <p:spPr>
          <a:xfrm>
            <a:off x="4648320" y="1905120"/>
            <a:ext cx="3314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View Part Configur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99640" y="1294920"/>
            <a:ext cx="789156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the Configuratio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Manager tab        at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op of the FeatureManager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window. The list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onfigurations is display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each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onfigur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601"/>
              </a:spcBef>
              <a:buClr>
                <a:srgbClr val="4b575f"/>
              </a:buClr>
              <a:buFont typeface="Arial Narrow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8" name="Picture 12" descr="tree-Configs"/>
          <p:cNvPicPr/>
          <p:nvPr/>
        </p:nvPicPr>
        <p:blipFill>
          <a:blip r:embed="rId1"/>
          <a:stretch/>
        </p:blipFill>
        <p:spPr>
          <a:xfrm>
            <a:off x="4724280" y="1371600"/>
            <a:ext cx="2286000" cy="44416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1" descr="ConfigManTab"/>
          <p:cNvPicPr/>
          <p:nvPr/>
        </p:nvPicPr>
        <p:blipFill>
          <a:blip r:embed="rId2"/>
          <a:stretch/>
        </p:blipFill>
        <p:spPr>
          <a:xfrm>
            <a:off x="3017880" y="1676520"/>
            <a:ext cx="411120" cy="3538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0" descr="Configs"/>
          <p:cNvPicPr/>
          <p:nvPr/>
        </p:nvPicPr>
        <p:blipFill>
          <a:blip r:embed="rId3"/>
          <a:stretch/>
        </p:blipFill>
        <p:spPr>
          <a:xfrm>
            <a:off x="7108920" y="1371600"/>
            <a:ext cx="18828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Viewing Part Configur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899640" y="1066680"/>
            <a:ext cx="78915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part is automatically rebuilt using the dimension values from the design tabl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1003" name="Picture 8" descr="BLK1"/>
          <p:cNvPicPr/>
          <p:nvPr/>
        </p:nvPicPr>
        <p:blipFill>
          <a:blip r:embed="rId1"/>
          <a:stretch/>
        </p:blipFill>
        <p:spPr>
          <a:xfrm>
            <a:off x="221148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9" descr="BLK4"/>
          <p:cNvPicPr/>
          <p:nvPr/>
        </p:nvPicPr>
        <p:blipFill>
          <a:blip r:embed="rId2"/>
          <a:stretch/>
        </p:blipFill>
        <p:spPr>
          <a:xfrm>
            <a:off x="510840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0" descr="BLK2"/>
          <p:cNvPicPr/>
          <p:nvPr/>
        </p:nvPicPr>
        <p:blipFill>
          <a:blip r:embed="rId3"/>
          <a:stretch/>
        </p:blipFill>
        <p:spPr>
          <a:xfrm>
            <a:off x="2055960" y="4191120"/>
            <a:ext cx="2724120" cy="22842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1" descr="BLK3"/>
          <p:cNvPicPr/>
          <p:nvPr/>
        </p:nvPicPr>
        <p:blipFill>
          <a:blip r:embed="rId4"/>
          <a:stretch/>
        </p:blipFill>
        <p:spPr>
          <a:xfrm>
            <a:off x="5410080" y="4191120"/>
            <a:ext cx="178272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 Overview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654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can control the state of a featur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tate of a feature can b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uppress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or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unsuppress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(also called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resolv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). A suppressed feature is not rebuilt or display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requires Microsoft Excel applic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53" name="Picture 4" descr=""/>
          <p:cNvPicPr/>
          <p:nvPr/>
        </p:nvPicPr>
        <p:blipFill>
          <a:blip r:embed="rId1"/>
          <a:stretch/>
        </p:blipFill>
        <p:spPr>
          <a:xfrm>
            <a:off x="6413400" y="990720"/>
            <a:ext cx="2281320" cy="23256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6" descr=""/>
          <p:cNvPicPr/>
          <p:nvPr/>
        </p:nvPicPr>
        <p:blipFill>
          <a:blip r:embed="rId2"/>
          <a:stretch/>
        </p:blipFill>
        <p:spPr>
          <a:xfrm>
            <a:off x="6413400" y="3457440"/>
            <a:ext cx="2273400" cy="236088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8"/>
          <p:cNvSpPr/>
          <p:nvPr/>
        </p:nvSpPr>
        <p:spPr>
          <a:xfrm>
            <a:off x="4951080" y="5865840"/>
            <a:ext cx="29581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6637"/>
                </a:solidFill>
                <a:latin typeface="Arial"/>
              </a:rPr>
              <a:t>Center hole suppressed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s Requi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"/>
                <a:ea typeface="Arial"/>
              </a:rPr>
              <a:t>Tip:</a:t>
            </a:r>
            <a:r>
              <a:rPr b="0" lang="en-US" sz="2000" spc="-1" strike="noStrike">
                <a:solidFill>
                  <a:srgbClr val="4b575f"/>
                </a:solidFill>
                <a:latin typeface="Arial"/>
                <a:ea typeface="Arial"/>
              </a:rPr>
              <a:t>   Rename features and dimensions before creating a  design tab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1"/>
          <a:stretch/>
        </p:blipFill>
        <p:spPr>
          <a:xfrm>
            <a:off x="438120" y="2143080"/>
            <a:ext cx="7862760" cy="22860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6"/>
          <p:cNvSpPr/>
          <p:nvPr/>
        </p:nvSpPr>
        <p:spPr>
          <a:xfrm>
            <a:off x="3042000" y="4724280"/>
            <a:ext cx="2152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Configuration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7"/>
          <p:cNvSpPr/>
          <p:nvPr/>
        </p:nvSpPr>
        <p:spPr>
          <a:xfrm>
            <a:off x="3652560" y="1295280"/>
            <a:ext cx="4258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Dimension and/or Feature names</a:t>
            </a:r>
            <a:br>
              <a:rPr sz="1800"/>
            </a:b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or special keyword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8"/>
          <p:cNvSpPr/>
          <p:nvPr/>
        </p:nvSpPr>
        <p:spPr>
          <a:xfrm>
            <a:off x="6625080" y="4724280"/>
            <a:ext cx="1387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Valu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62" name="Group 11"/>
          <p:cNvGrpSpPr/>
          <p:nvPr/>
        </p:nvGrpSpPr>
        <p:grpSpPr>
          <a:xfrm>
            <a:off x="2971440" y="1447920"/>
            <a:ext cx="914400" cy="1447560"/>
            <a:chOff x="2971440" y="1447920"/>
            <a:chExt cx="914400" cy="1447560"/>
          </a:xfrm>
        </p:grpSpPr>
        <p:sp>
          <p:nvSpPr>
            <p:cNvPr id="863" name="Line 9"/>
            <p:cNvSpPr/>
            <p:nvPr/>
          </p:nvSpPr>
          <p:spPr>
            <a:xfrm flipH="1">
              <a:off x="3580920" y="1447920"/>
              <a:ext cx="3049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4" name="Line 10"/>
            <p:cNvSpPr/>
            <p:nvPr/>
          </p:nvSpPr>
          <p:spPr>
            <a:xfrm flipH="1">
              <a:off x="2971440" y="1447920"/>
              <a:ext cx="609480" cy="144756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5" name="Group 16"/>
          <p:cNvGrpSpPr/>
          <p:nvPr/>
        </p:nvGrpSpPr>
        <p:grpSpPr>
          <a:xfrm>
            <a:off x="1752480" y="4038120"/>
            <a:ext cx="1524240" cy="838800"/>
            <a:chOff x="1752480" y="4038120"/>
            <a:chExt cx="1524240" cy="838800"/>
          </a:xfrm>
        </p:grpSpPr>
        <p:sp>
          <p:nvSpPr>
            <p:cNvPr id="866" name="Line 14"/>
            <p:cNvSpPr/>
            <p:nvPr/>
          </p:nvSpPr>
          <p:spPr>
            <a:xfrm flipH="1">
              <a:off x="2743200" y="487692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7" name="Line 15"/>
            <p:cNvSpPr/>
            <p:nvPr/>
          </p:nvSpPr>
          <p:spPr>
            <a:xfrm flipH="1" flipV="1">
              <a:off x="1752480" y="4038120"/>
              <a:ext cx="99072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8" name="Group 17"/>
          <p:cNvGrpSpPr/>
          <p:nvPr/>
        </p:nvGrpSpPr>
        <p:grpSpPr>
          <a:xfrm>
            <a:off x="5333760" y="4038120"/>
            <a:ext cx="1523520" cy="838800"/>
            <a:chOff x="5333760" y="4038120"/>
            <a:chExt cx="1523520" cy="838800"/>
          </a:xfrm>
        </p:grpSpPr>
        <p:sp>
          <p:nvSpPr>
            <p:cNvPr id="869" name="Line 18"/>
            <p:cNvSpPr/>
            <p:nvPr/>
          </p:nvSpPr>
          <p:spPr>
            <a:xfrm flipH="1">
              <a:off x="6324120" y="4876920"/>
              <a:ext cx="53316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0" name="Line 19"/>
            <p:cNvSpPr/>
            <p:nvPr/>
          </p:nvSpPr>
          <p:spPr>
            <a:xfrm flipH="1" flipV="1">
              <a:off x="5333760" y="4038120"/>
              <a:ext cx="99036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Features and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eature and Dimension names us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a Design Table should be renam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o better describe their func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ich is easier to understand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D1@Cut-Extrude1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Width@Oval_Slot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3" name="Picture 4" descr=""/>
          <p:cNvPicPr/>
          <p:nvPr/>
        </p:nvPicPr>
        <p:blipFill>
          <a:blip r:embed="rId1"/>
          <a:stretch/>
        </p:blipFill>
        <p:spPr>
          <a:xfrm>
            <a:off x="5262480" y="1143000"/>
            <a:ext cx="3348000" cy="48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Rename a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5575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-pause-click o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Extrude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n the FeatureManager design tree (do not double-click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ip: Instead of the click-pause-click technique, you can select the feature, and then press the function key F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eature name is highlighted in blue, ready to be edi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ype the new name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press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Ente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6" name="Picture 6" descr="RenameFeature"/>
          <p:cNvPicPr/>
          <p:nvPr/>
        </p:nvPicPr>
        <p:blipFill>
          <a:blip r:embed="rId1"/>
          <a:stretch/>
        </p:blipFill>
        <p:spPr>
          <a:xfrm>
            <a:off x="6553080" y="1371600"/>
            <a:ext cx="2184480" cy="407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the Other Features Used in the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Extrude2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ut-Extrude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in_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Outside_corner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9" name="Picture 8" descr="RenameFeature2"/>
          <p:cNvPicPr/>
          <p:nvPr/>
        </p:nvPicPr>
        <p:blipFill>
          <a:blip r:embed="rId1"/>
          <a:stretch/>
        </p:blipFill>
        <p:spPr>
          <a:xfrm>
            <a:off x="6553080" y="1371600"/>
            <a:ext cx="2194200" cy="40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Display Feature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296720"/>
            <a:ext cx="4952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Annot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older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how Feature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2" name="Picture 6" descr=""/>
          <p:cNvPicPr/>
          <p:nvPr/>
        </p:nvPicPr>
        <p:blipFill>
          <a:blip r:embed="rId1"/>
          <a:stretch/>
        </p:blipFill>
        <p:spPr>
          <a:xfrm>
            <a:off x="2514600" y="3809880"/>
            <a:ext cx="2643120" cy="23544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8" descr="DisplayDims"/>
          <p:cNvPicPr/>
          <p:nvPr/>
        </p:nvPicPr>
        <p:blipFill>
          <a:blip r:embed="rId2"/>
          <a:stretch/>
        </p:blipFill>
        <p:spPr>
          <a:xfrm>
            <a:off x="5902200" y="1066680"/>
            <a:ext cx="217512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0:12:14Z</dcterms:created>
  <dc:creator>jmatsumoto</dc:creator>
  <dc:description/>
  <dc:language>en-US</dc:language>
  <cp:lastModifiedBy>ECES21</cp:lastModifiedBy>
  <dcterms:modified xsi:type="dcterms:W3CDTF">2013-10-29T18:58:20Z</dcterms:modified>
  <cp:revision>70</cp:revision>
  <dc:subject/>
  <dc:title>Presentation Title</dc:title>
</cp:coreProperties>
</file>