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47.png" ContentType="image/png"/>
  <Override PartName="/ppt/media/image10.png" ContentType="image/png"/>
  <Override PartName="/ppt/media/image14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16.png" ContentType="image/png"/>
  <Override PartName="/ppt/media/image4.png" ContentType="image/png"/>
  <Override PartName="/ppt/media/image7.jpeg" ContentType="image/jpeg"/>
  <Override PartName="/ppt/media/image65.png" ContentType="image/png"/>
  <Override PartName="/ppt/media/image27.png" ContentType="image/png"/>
  <Override PartName="/ppt/media/image64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29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2.png" ContentType="image/png"/>
  <Override PartName="/ppt/media/image49.png" ContentType="image/png"/>
  <Override PartName="/ppt/media/image13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7.wmf" ContentType="image/x-wmf"/>
  <Override PartName="/ppt/media/image38.wmf" ContentType="image/x-wmf"/>
  <Override PartName="/ppt/media/image40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wmf" ContentType="image/x-wmf"/>
  <Override PartName="/ppt/media/image44.png" ContentType="image/png"/>
  <Override PartName="/ppt/media/image4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C6E2E-DCDF-4131-AA1B-7E4A3637C2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E25AB-9995-4FC1-8FE5-EB6C8B3A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63F9-60D5-4724-AFB8-2715ED2D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5AD14-C8FA-4D85-86D6-F7079217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B57AC-5323-4845-A1C0-1614FEBB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E7EE2-ADBD-46D2-926A-D04441EB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3FC54-D327-4499-A4EE-3F8FEF3F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B1789-CA8C-43DD-B3ED-3F970CCC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8BD3D-28A5-4828-9E2E-022DB9E8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8116C-77D8-43FA-8082-EE2F9780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FD920-8BEA-4A28-9A55-C7A99D0D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5A1A7-0D89-4E74-BAE0-45878FE03F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4904F-BE80-46E3-A796-5E86939CC5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A0DA4-0995-4EBB-82EA-19945C6A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A0662-AE22-4AE0-ACF8-88812EDE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8A0B8-0FDB-415E-BE06-F35617E4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9CB5D-4060-41FE-9AFB-1C0E76A5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AC133-ABED-4079-AAA0-2915E1A4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AB58C-CBA8-4CBF-9FA5-5BFF90EE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5B9F7-ADE8-4A10-87E9-C699AA3B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4FF16-BCCE-4D53-8CF6-564C4A7F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A4507-2C95-4DFB-AFFF-EF9B8AC8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FD034-558C-451C-B1F0-AB667869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825C3-E904-4BEB-B2DA-FDCF94F21F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691E-0E6C-4B59-A0DB-B250AB011AD6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F666-1CF5-41E8-A589-1A18948E902E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1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2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2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2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CF4F-ED9E-4789-A6AA-593DEA8C8733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6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6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7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72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A815-582C-4468-8AD5-DA13700B18FB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1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1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1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19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91BE-3A55-4CF7-8C7D-F844EE9630BB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5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6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6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6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6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A34C-C1CC-42D4-A323-07E0E074A5E4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0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1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1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1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00F3-7D14-42D3-BAE4-3F57FAEDA779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5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5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5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5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FC17-1273-48F4-B40C-C3E220F3692E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0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0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0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0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1"/>
          </p:nvPr>
        </p:nvSpPr>
        <p:spPr>
          <a:xfrm>
            <a:off x="5410080" y="6552720"/>
            <a:ext cx="67464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2"/>
          </p:nvPr>
        </p:nvSpPr>
        <p:spPr>
          <a:xfrm>
            <a:off x="6095520" y="6575040"/>
            <a:ext cx="4748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3E2C-E97C-429D-8BE4-18C6CC0C37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09B0-1232-4709-9D9C-AAC6D983F308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4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4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5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5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5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2AE5-0007-4839-B9FB-D445FCA32DC9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9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9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9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9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9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3"/>
          </p:nvPr>
        </p:nvSpPr>
        <p:spPr>
          <a:xfrm>
            <a:off x="5410080" y="6552720"/>
            <a:ext cx="67464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b57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4"/>
          </p:nvPr>
        </p:nvSpPr>
        <p:spPr>
          <a:xfrm>
            <a:off x="6095520" y="6575040"/>
            <a:ext cx="4748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b57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C079-EA23-4ACA-BC64-B8D8BD0C8E9E}" type="slidenum">
              <a:rPr b="0" lang="en-US" sz="2400" spc="-1" strike="noStrike">
                <a:solidFill>
                  <a:srgbClr val="4b575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D263-C445-4BF4-962A-F0204D342D90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7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8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0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583B-CA80-47A7-B7FB-29BE45662DAF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9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"/>
          <p:cNvGrpSpPr/>
          <p:nvPr/>
        </p:nvGrpSpPr>
        <p:grpSpPr>
          <a:xfrm>
            <a:off x="3240" y="12600"/>
            <a:ext cx="9140760" cy="6854760"/>
            <a:chOff x="3240" y="12600"/>
            <a:chExt cx="9140760" cy="6854760"/>
          </a:xfrm>
        </p:grpSpPr>
        <p:pic>
          <p:nvPicPr>
            <p:cNvPr id="91" name="Picture 3" descr="12173-SolidWorks-cov"/>
            <p:cNvPicPr/>
            <p:nvPr/>
          </p:nvPicPr>
          <p:blipFill>
            <a:blip r:embed="rId4"/>
            <a:stretch/>
          </p:blipFill>
          <p:spPr>
            <a:xfrm>
              <a:off x="3240" y="12600"/>
              <a:ext cx="914076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6370560" y="6304680"/>
              <a:ext cx="24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9c8e80"/>
                  </a:solidFill>
                  <a:latin typeface="Arial"/>
                </a:rPr>
                <a:t>Image courtesy of National Optical Astronomy Observatory, operated by the Association of Universities for Research in Astronomy, under cooperative agreement with the National Science Foundation.</a:t>
              </a:r>
              <a:endParaRPr b="1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93" name="Picture 5" descr="swlogcol"/>
            <p:cNvPicPr/>
            <p:nvPr/>
          </p:nvPicPr>
          <p:blipFill>
            <a:blip r:embed="rId5"/>
            <a:stretch/>
          </p:blipFill>
          <p:spPr>
            <a:xfrm>
              <a:off x="7437600" y="442800"/>
              <a:ext cx="1338120" cy="73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6AC3-F014-4DAE-B321-75099ECDC8EB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3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3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140" name="Image 8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27C0-9837-4471-9C2D-EA55AE3CB679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1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4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85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87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48E5-715A-49F1-B3C3-063D3B3F4E8E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8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31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32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34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235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E087-5A77-4E25-A5A3-04D7713F5CE3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7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7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8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E871-2CC4-47CD-A36D-7B6D83850285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2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2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2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0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BAC8-DDC5-43CA-831F-70FDB5179F77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70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73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74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76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7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3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6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6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0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8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8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8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8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8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8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86920" y="1447920"/>
            <a:ext cx="853452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575f"/>
                </a:solidFill>
                <a:latin typeface="Arial Narrow"/>
              </a:rPr>
              <a:t>Instructor’s Guide to Teaching SolidWorks Software Lesson 8</a:t>
            </a:r>
            <a:endParaRPr b="1" lang="en-US" sz="32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11280" y="26668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arly College EAS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s. Sparnel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62120" y="26676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Hide All the Feature Dimensions for a Selected Featu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51055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the feature in the FeatureManager design tree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Hide All Dimens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6" name="Picture 6" descr="HideDim"/>
          <p:cNvPicPr/>
          <p:nvPr/>
        </p:nvPicPr>
        <p:blipFill>
          <a:blip r:embed="rId1"/>
          <a:stretch/>
        </p:blipFill>
        <p:spPr>
          <a:xfrm>
            <a:off x="6022800" y="1371600"/>
            <a:ext cx="2130480" cy="458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6" descr="HideDim2"/>
          <p:cNvPicPr/>
          <p:nvPr/>
        </p:nvPicPr>
        <p:blipFill>
          <a:blip r:embed="rId1"/>
          <a:stretch/>
        </p:blipFill>
        <p:spPr>
          <a:xfrm>
            <a:off x="3809880" y="1371600"/>
            <a:ext cx="5257800" cy="429588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Hide Individual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296720"/>
            <a:ext cx="3657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the dimension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Hid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22240" y="266760"/>
            <a:ext cx="702648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Display Dimension Nam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35049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Tool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Op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General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on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ystem Op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ab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how dimension nam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OK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92" name="Picture 4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876560" cy="386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Rename a Dimension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5486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isplay the dimens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685800" indent="-2286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Either double-click the feature to display its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685800" indent="-2286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Or, right-click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nnota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folder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how Feature Dimens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the 70mm diameter dimension, and in the PropertyManager, rename the dimension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knob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then click OK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Note: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“@Sketch2” is automatically added to the dimension nam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95" name="Picture 6" descr="renameDim"/>
          <p:cNvPicPr/>
          <p:nvPr/>
        </p:nvPicPr>
        <p:blipFill>
          <a:blip r:embed="rId1"/>
          <a:stretch/>
        </p:blipFill>
        <p:spPr>
          <a:xfrm>
            <a:off x="6934320" y="1295280"/>
            <a:ext cx="1461960" cy="4776840"/>
          </a:xfrm>
          <a:prstGeom prst="rect">
            <a:avLst/>
          </a:prstGeom>
          <a:ln w="0">
            <a:noFill/>
          </a:ln>
        </p:spPr>
      </p:pic>
      <p:sp>
        <p:nvSpPr>
          <p:cNvPr id="896" name="Oval 8"/>
          <p:cNvSpPr/>
          <p:nvPr/>
        </p:nvSpPr>
        <p:spPr>
          <a:xfrm>
            <a:off x="7010280" y="3505320"/>
            <a:ext cx="1143000" cy="228600"/>
          </a:xfrm>
          <a:prstGeom prst="ellipse">
            <a:avLst/>
          </a:prstGeom>
          <a:noFill/>
          <a:ln w="28440">
            <a:solidFill>
              <a:srgbClr val="55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4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4249440" cy="362124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name these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114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Height of the box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_heigh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idth of the box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_wid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ameter of the hole in the knob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hole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adius of outside corners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fillet_radiu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Inten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1" name="Picture 4" descr=""/>
          <p:cNvPicPr/>
          <p:nvPr/>
        </p:nvPicPr>
        <p:blipFill>
          <a:blip r:embed="rId1"/>
          <a:stretch/>
        </p:blipFill>
        <p:spPr>
          <a:xfrm>
            <a:off x="4726080" y="1433520"/>
            <a:ext cx="4002120" cy="4589280"/>
          </a:xfrm>
          <a:prstGeom prst="rect">
            <a:avLst/>
          </a:prstGeom>
          <a:ln w="0">
            <a:noFill/>
          </a:ln>
        </p:spPr>
      </p:pic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160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depth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should always be equal to the depth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(the base feature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should always be centered on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mensions alone are not always the best way to capture design int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ing Valu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command relates dimensions to each other through shared variable nam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f the value of one linked dimension is modified, then all of the linked dimensions are modifi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is excellent for making feature dimensions equal to each othe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is an important tool for capturing design int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Examples of Uses for Link Valu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01600" y="1296720"/>
            <a:ext cx="3618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hickness of the square and the two tabs is always equal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width of both slots is always equa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907" name="Group 10"/>
          <p:cNvGrpSpPr/>
          <p:nvPr/>
        </p:nvGrpSpPr>
        <p:grpSpPr>
          <a:xfrm>
            <a:off x="3819600" y="1297080"/>
            <a:ext cx="4943160" cy="4493880"/>
            <a:chOff x="3819600" y="1297080"/>
            <a:chExt cx="4943160" cy="4493880"/>
          </a:xfrm>
        </p:grpSpPr>
        <p:pic>
          <p:nvPicPr>
            <p:cNvPr id="908" name="Picture 4" descr=""/>
            <p:cNvPicPr/>
            <p:nvPr/>
          </p:nvPicPr>
          <p:blipFill>
            <a:blip r:embed="rId1"/>
            <a:stretch/>
          </p:blipFill>
          <p:spPr>
            <a:xfrm>
              <a:off x="3893400" y="1297080"/>
              <a:ext cx="2360880" cy="18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Picture 6" descr=""/>
            <p:cNvPicPr/>
            <p:nvPr/>
          </p:nvPicPr>
          <p:blipFill>
            <a:blip r:embed="rId2"/>
            <a:stretch/>
          </p:blipFill>
          <p:spPr>
            <a:xfrm>
              <a:off x="6401880" y="1364760"/>
              <a:ext cx="2360880" cy="160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Picture 8" descr=""/>
            <p:cNvPicPr/>
            <p:nvPr/>
          </p:nvPicPr>
          <p:blipFill>
            <a:blip r:embed="rId3"/>
            <a:stretch/>
          </p:blipFill>
          <p:spPr>
            <a:xfrm>
              <a:off x="3819600" y="3475800"/>
              <a:ext cx="2490120" cy="231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Picture 9" descr=""/>
            <p:cNvPicPr/>
            <p:nvPr/>
          </p:nvPicPr>
          <p:blipFill>
            <a:blip r:embed="rId4"/>
            <a:stretch/>
          </p:blipFill>
          <p:spPr>
            <a:xfrm>
              <a:off x="6401880" y="3475800"/>
              <a:ext cx="2357640" cy="2315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79250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 the Depth of the Box to the Depth of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3" name="Picture 4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4638600" cy="270540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6" descr="linkvalues"/>
          <p:cNvPicPr/>
          <p:nvPr/>
        </p:nvPicPr>
        <p:blipFill>
          <a:blip r:embed="rId2"/>
          <a:stretch/>
        </p:blipFill>
        <p:spPr>
          <a:xfrm>
            <a:off x="6705720" y="2362320"/>
            <a:ext cx="2047680" cy="240480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6840" y="1296720"/>
            <a:ext cx="3962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splay the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on the depth dimension for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and select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to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520" y="1296720"/>
            <a:ext cx="39146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yp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ep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in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Nam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ext box and then 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OK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Right-click on the depth dimension for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8" name="Picture 9" descr=""/>
          <p:cNvPicPr/>
          <p:nvPr/>
        </p:nvPicPr>
        <p:blipFill>
          <a:blip r:embed="rId1"/>
          <a:stretch/>
        </p:blipFill>
        <p:spPr>
          <a:xfrm>
            <a:off x="5418000" y="1297080"/>
            <a:ext cx="2617920" cy="235404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11" descr="LinkValues"/>
          <p:cNvPicPr/>
          <p:nvPr/>
        </p:nvPicPr>
        <p:blipFill>
          <a:blip r:embed="rId2"/>
          <a:stretch/>
        </p:blipFill>
        <p:spPr>
          <a:xfrm>
            <a:off x="5410080" y="3886200"/>
            <a:ext cx="2048040" cy="240516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12" descr="sharedValue"/>
          <p:cNvPicPr/>
          <p:nvPr/>
        </p:nvPicPr>
        <p:blipFill>
          <a:blip r:embed="rId3"/>
          <a:stretch/>
        </p:blipFill>
        <p:spPr>
          <a:xfrm>
            <a:off x="4800600" y="1447920"/>
            <a:ext cx="3573360" cy="98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Families of Par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44719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ny times parts come in a variety of siz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is called a family of par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t is not efficient to build each version individual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simplify making families of par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844" name="Group 10"/>
          <p:cNvGrpSpPr/>
          <p:nvPr/>
        </p:nvGrpSpPr>
        <p:grpSpPr>
          <a:xfrm>
            <a:off x="5562720" y="1676520"/>
            <a:ext cx="3276360" cy="3352320"/>
            <a:chOff x="5562720" y="1676520"/>
            <a:chExt cx="3276360" cy="3352320"/>
          </a:xfrm>
        </p:grpSpPr>
        <p:pic>
          <p:nvPicPr>
            <p:cNvPr id="845" name="Picture 4" descr=""/>
            <p:cNvPicPr/>
            <p:nvPr/>
          </p:nvPicPr>
          <p:blipFill>
            <a:blip r:embed="rId1"/>
            <a:stretch/>
          </p:blipFill>
          <p:spPr>
            <a:xfrm>
              <a:off x="5574240" y="1727640"/>
              <a:ext cx="1520640" cy="151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icture 6" descr=""/>
            <p:cNvPicPr/>
            <p:nvPr/>
          </p:nvPicPr>
          <p:blipFill>
            <a:blip r:embed="rId2"/>
            <a:stretch/>
          </p:blipFill>
          <p:spPr>
            <a:xfrm>
              <a:off x="7049160" y="1676520"/>
              <a:ext cx="1789920" cy="15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Picture 8" descr=""/>
            <p:cNvPicPr/>
            <p:nvPr/>
          </p:nvPicPr>
          <p:blipFill>
            <a:blip r:embed="rId3"/>
            <a:stretch/>
          </p:blipFill>
          <p:spPr>
            <a:xfrm>
              <a:off x="5562720" y="3326760"/>
              <a:ext cx="1536480" cy="15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9" descr=""/>
            <p:cNvPicPr/>
            <p:nvPr/>
          </p:nvPicPr>
          <p:blipFill>
            <a:blip r:embed="rId4"/>
            <a:stretch/>
          </p:blipFill>
          <p:spPr>
            <a:xfrm>
              <a:off x="7255440" y="3223800"/>
              <a:ext cx="1402920" cy="180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to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01240" y="1296720"/>
            <a:ext cx="49546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4b575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elect </a:t>
            </a: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Depth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from the list, and 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OK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4b575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Both dimensions have the same name and valu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4b575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Rebuild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the part to update the geometry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637"/>
                </a:solidFill>
                <a:latin typeface="Arial"/>
                <a:ea typeface="Arial"/>
              </a:rPr>
              <a:t>Tip:</a:t>
            </a:r>
            <a:r>
              <a:rPr b="0" lang="en-US" sz="2000" spc="-1" strike="noStrike">
                <a:solidFill>
                  <a:srgbClr val="4b575f"/>
                </a:solidFill>
                <a:latin typeface="Arial"/>
                <a:ea typeface="Arial"/>
              </a:rPr>
              <a:t> Use the CTRL key to select several dimensions at the same time and link them in one step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23" name="Picture 4" descr=""/>
          <p:cNvPicPr/>
          <p:nvPr/>
        </p:nvPicPr>
        <p:blipFill>
          <a:blip r:embed="rId1"/>
          <a:stretch/>
        </p:blipFill>
        <p:spPr>
          <a:xfrm>
            <a:off x="5087880" y="1297080"/>
            <a:ext cx="3278160" cy="2354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8" descr="sharedValue"/>
          <p:cNvPicPr/>
          <p:nvPr/>
        </p:nvPicPr>
        <p:blipFill>
          <a:blip r:embed="rId2"/>
          <a:stretch/>
        </p:blipFill>
        <p:spPr>
          <a:xfrm>
            <a:off x="5181480" y="1371600"/>
            <a:ext cx="3573720" cy="98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Geometric Rel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late geometry through physical relationships such a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ncentric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radia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idpoin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qua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llinear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inciden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Examples of Geometric Rel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632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ketch Fillet tool automatically creates one radial dimension and 3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Equal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relat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hanging the dimension changes all 4 fille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technique is better than having 4 radial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29" name="Picture 4" descr=""/>
          <p:cNvPicPr/>
          <p:nvPr/>
        </p:nvPicPr>
        <p:blipFill>
          <a:blip r:embed="rId1"/>
          <a:stretch/>
        </p:blipFill>
        <p:spPr>
          <a:xfrm>
            <a:off x="5076720" y="1366920"/>
            <a:ext cx="3146400" cy="1915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6" descr=""/>
          <p:cNvPicPr/>
          <p:nvPr/>
        </p:nvPicPr>
        <p:blipFill>
          <a:blip r:embed="rId2"/>
          <a:stretch/>
        </p:blipFill>
        <p:spPr>
          <a:xfrm>
            <a:off x="4916520" y="3803760"/>
            <a:ext cx="3620880" cy="23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Examples of Geometric Rel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31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wo featur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king the circle for the boss Coradial with the edge of the base ensures that the boss will always be the correct size regardless of how the base chang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933" name="Group 13"/>
          <p:cNvGrpSpPr/>
          <p:nvPr/>
        </p:nvGrpSpPr>
        <p:grpSpPr>
          <a:xfrm>
            <a:off x="4038480" y="1143000"/>
            <a:ext cx="4910400" cy="4869000"/>
            <a:chOff x="4038480" y="1143000"/>
            <a:chExt cx="4910400" cy="4869000"/>
          </a:xfrm>
        </p:grpSpPr>
        <p:pic>
          <p:nvPicPr>
            <p:cNvPr id="934" name="Picture 5" descr=""/>
            <p:cNvPicPr/>
            <p:nvPr/>
          </p:nvPicPr>
          <p:blipFill>
            <a:blip r:embed="rId1"/>
            <a:stretch/>
          </p:blipFill>
          <p:spPr>
            <a:xfrm>
              <a:off x="4038480" y="1143000"/>
              <a:ext cx="2471760" cy="24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7" descr=""/>
            <p:cNvPicPr/>
            <p:nvPr/>
          </p:nvPicPr>
          <p:blipFill>
            <a:blip r:embed="rId2"/>
            <a:stretch/>
          </p:blipFill>
          <p:spPr>
            <a:xfrm>
              <a:off x="6553080" y="1219320"/>
              <a:ext cx="2395800" cy="24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9" descr=""/>
            <p:cNvPicPr/>
            <p:nvPr/>
          </p:nvPicPr>
          <p:blipFill>
            <a:blip r:embed="rId3"/>
            <a:stretch/>
          </p:blipFill>
          <p:spPr>
            <a:xfrm>
              <a:off x="4191120" y="4275000"/>
              <a:ext cx="2404800" cy="168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Picture 10" descr=""/>
            <p:cNvPicPr/>
            <p:nvPr/>
          </p:nvPicPr>
          <p:blipFill>
            <a:blip r:embed="rId4"/>
            <a:stretch/>
          </p:blipFill>
          <p:spPr>
            <a:xfrm>
              <a:off x="6858000" y="4419720"/>
              <a:ext cx="2057400" cy="15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11" descr=""/>
            <p:cNvPicPr/>
            <p:nvPr/>
          </p:nvPicPr>
          <p:blipFill>
            <a:blip r:embed="rId5"/>
            <a:stretch/>
          </p:blipFill>
          <p:spPr>
            <a:xfrm>
              <a:off x="4724280" y="3809880"/>
              <a:ext cx="3430800" cy="5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Text Box 12"/>
          <p:cNvSpPr/>
          <p:nvPr/>
        </p:nvSpPr>
        <p:spPr>
          <a:xfrm>
            <a:off x="5938920" y="4267080"/>
            <a:ext cx="10652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enter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5026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Right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feature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Edit Sketch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     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2" name="Picture 6" descr="EditSketch"/>
          <p:cNvPicPr/>
          <p:nvPr/>
        </p:nvPicPr>
        <p:blipFill>
          <a:blip r:embed="rId1"/>
          <a:stretch/>
        </p:blipFill>
        <p:spPr>
          <a:xfrm>
            <a:off x="4562640" y="1752480"/>
            <a:ext cx="237960" cy="2286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7" descr="EditSketchPM"/>
          <p:cNvPicPr/>
          <p:nvPr/>
        </p:nvPicPr>
        <p:blipFill>
          <a:blip r:embed="rId2"/>
          <a:stretch/>
        </p:blipFill>
        <p:spPr>
          <a:xfrm>
            <a:off x="5791320" y="1371600"/>
            <a:ext cx="2104920" cy="49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838080" y="190080"/>
            <a:ext cx="695016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7102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elete the linear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Notice the circle is blue, indicating it is under defin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rag the circle to one side. Without dimensions to locate it, it is free to mo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Centerline       , and sketch a diagonal Centerlin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6" name="Picture 11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338280" cy="4362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2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3338280" cy="4362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4" descr="icon_centerline"/>
          <p:cNvPicPr/>
          <p:nvPr/>
        </p:nvPicPr>
        <p:blipFill>
          <a:blip r:embed="rId3"/>
          <a:stretch/>
        </p:blipFill>
        <p:spPr>
          <a:xfrm>
            <a:off x="3220920" y="3962520"/>
            <a:ext cx="284400" cy="2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8" descr="icon_add_relation"/>
          <p:cNvPicPr/>
          <p:nvPr/>
        </p:nvPicPr>
        <p:blipFill>
          <a:blip r:embed="rId1"/>
          <a:stretch/>
        </p:blipFill>
        <p:spPr>
          <a:xfrm>
            <a:off x="3657600" y="1252440"/>
            <a:ext cx="284040" cy="27144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190080"/>
            <a:ext cx="695016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5562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dd Relation 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     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elect the centerline and the point at the center of the circl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lnSpc>
                <a:spcPct val="85000"/>
              </a:lnSpc>
              <a:spcBef>
                <a:spcPts val="601"/>
              </a:spcBef>
              <a:buClr>
                <a:srgbClr val="1966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37"/>
                </a:solidFill>
                <a:latin typeface="Arial Narrow"/>
                <a:ea typeface="Arial"/>
              </a:rPr>
              <a:t>Note: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If the centerline is still highlighted when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dd Rela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opens, the line automatically appears in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elected Entiti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list and you do not have to select it agai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If you select the wrong entity, right-click in the graphics area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Clear Selec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2" name="Picture 11" descr="AddRelation2"/>
          <p:cNvPicPr/>
          <p:nvPr/>
        </p:nvPicPr>
        <p:blipFill>
          <a:blip r:embed="rId2"/>
          <a:stretch/>
        </p:blipFill>
        <p:spPr>
          <a:xfrm>
            <a:off x="6553080" y="1295280"/>
            <a:ext cx="1828800" cy="39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914400" y="1296720"/>
            <a:ext cx="3533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Midpoi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and then 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pply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and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Clo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circle will now stay centered on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featur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5" name="Picture 8" descr=""/>
          <p:cNvPicPr/>
          <p:nvPr/>
        </p:nvPicPr>
        <p:blipFill>
          <a:blip r:embed="rId1"/>
          <a:stretch/>
        </p:blipFill>
        <p:spPr>
          <a:xfrm>
            <a:off x="4822920" y="1393920"/>
            <a:ext cx="3808440" cy="466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Rebuil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     to exit the sketch and rebuild the par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8" name="Picture 6" descr=""/>
          <p:cNvPicPr/>
          <p:nvPr/>
        </p:nvPicPr>
        <p:blipFill>
          <a:blip r:embed="rId1"/>
          <a:stretch/>
        </p:blipFill>
        <p:spPr>
          <a:xfrm>
            <a:off x="5703840" y="1297080"/>
            <a:ext cx="2046240" cy="23540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8" descr="icon_rebuild"/>
          <p:cNvPicPr/>
          <p:nvPr/>
        </p:nvPicPr>
        <p:blipFill>
          <a:blip r:embed="rId2"/>
          <a:stretch/>
        </p:blipFill>
        <p:spPr>
          <a:xfrm>
            <a:off x="3048120" y="1295280"/>
            <a:ext cx="284040" cy="28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6" descr="DesignTable"/>
          <p:cNvPicPr/>
          <p:nvPr/>
        </p:nvPicPr>
        <p:blipFill>
          <a:blip r:embed="rId1"/>
          <a:stretch/>
        </p:blipFill>
        <p:spPr>
          <a:xfrm>
            <a:off x="6705720" y="1371600"/>
            <a:ext cx="1828800" cy="4629240"/>
          </a:xfrm>
          <a:prstGeom prst="rect">
            <a:avLst/>
          </a:prstGeom>
          <a:ln w="0">
            <a:noFill/>
          </a:ln>
        </p:spPr>
      </p:pic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Insert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57326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Position the part in the lower right hand corner of the graphics area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Inser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Design Tabl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he PropertyManager appear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1500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elect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uto-cre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option to create a new design table automatically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Table Overview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899640" y="1219320"/>
            <a:ext cx="789156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are used to create different configurations of a par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hat is a Configuration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A configuration is a way to create a family of similar parts within one fil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Each configuration represents one version of the part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automatically change the dimensions and features of an existing part to create multiple configurations. The configurations control the size and shape of a par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18" descr="CreateDT"/>
          <p:cNvPicPr/>
          <p:nvPr/>
        </p:nvPicPr>
        <p:blipFill>
          <a:blip r:embed="rId1"/>
          <a:stretch/>
        </p:blipFill>
        <p:spPr>
          <a:xfrm>
            <a:off x="2438280" y="1295280"/>
            <a:ext cx="6363000" cy="490716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79440"/>
            <a:ext cx="8305920" cy="45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65" name="Picture 16" descr="dtDims"/>
          <p:cNvPicPr/>
          <p:nvPr/>
        </p:nvPicPr>
        <p:blipFill>
          <a:blip r:embed="rId2"/>
          <a:stretch/>
        </p:blipFill>
        <p:spPr>
          <a:xfrm>
            <a:off x="457200" y="1066680"/>
            <a:ext cx="26002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 Excel worksheet is displayed in the part document window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xcel toolbars replace the SolidWorks toolbar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By default, the first configuration is named Default. You can (and should) change this to something more meaningfu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16" descr="PICT0133"/>
          <p:cNvPicPr/>
          <p:nvPr/>
        </p:nvPicPr>
        <p:blipFill>
          <a:blip r:embed="rId1"/>
          <a:stretch/>
        </p:blipFill>
        <p:spPr>
          <a:xfrm>
            <a:off x="301680" y="2211480"/>
            <a:ext cx="8537400" cy="207468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view of a Design Table’s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0" name="Text Box 4"/>
          <p:cNvSpPr/>
          <p:nvPr/>
        </p:nvSpPr>
        <p:spPr>
          <a:xfrm>
            <a:off x="3042720" y="4724280"/>
            <a:ext cx="29383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Configuration name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go in this column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1" name="Text Box 5"/>
          <p:cNvSpPr/>
          <p:nvPr/>
        </p:nvSpPr>
        <p:spPr>
          <a:xfrm>
            <a:off x="3865320" y="1295280"/>
            <a:ext cx="4258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Dimension and/or Feature names</a:t>
            </a:r>
            <a:br>
              <a:rPr sz="1800"/>
            </a:b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or special keywords go in this row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2" name="Text Box 6"/>
          <p:cNvSpPr/>
          <p:nvPr/>
        </p:nvSpPr>
        <p:spPr>
          <a:xfrm>
            <a:off x="6471720" y="4800600"/>
            <a:ext cx="234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Values go here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973" name="Group 7"/>
          <p:cNvGrpSpPr/>
          <p:nvPr/>
        </p:nvGrpSpPr>
        <p:grpSpPr>
          <a:xfrm>
            <a:off x="2971440" y="1447920"/>
            <a:ext cx="914400" cy="1447560"/>
            <a:chOff x="2971440" y="1447920"/>
            <a:chExt cx="914400" cy="1447560"/>
          </a:xfrm>
        </p:grpSpPr>
        <p:sp>
          <p:nvSpPr>
            <p:cNvPr id="974" name="Line 8"/>
            <p:cNvSpPr/>
            <p:nvPr/>
          </p:nvSpPr>
          <p:spPr>
            <a:xfrm flipH="1">
              <a:off x="3580920" y="1447920"/>
              <a:ext cx="3049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5" name="Line 9"/>
            <p:cNvSpPr/>
            <p:nvPr/>
          </p:nvSpPr>
          <p:spPr>
            <a:xfrm flipH="1">
              <a:off x="2971440" y="1447920"/>
              <a:ext cx="609480" cy="144756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6" name="Group 10"/>
          <p:cNvGrpSpPr/>
          <p:nvPr/>
        </p:nvGrpSpPr>
        <p:grpSpPr>
          <a:xfrm>
            <a:off x="1752480" y="4038120"/>
            <a:ext cx="1524240" cy="838800"/>
            <a:chOff x="1752480" y="4038120"/>
            <a:chExt cx="1524240" cy="838800"/>
          </a:xfrm>
        </p:grpSpPr>
        <p:sp>
          <p:nvSpPr>
            <p:cNvPr id="977" name="Line 11"/>
            <p:cNvSpPr/>
            <p:nvPr/>
          </p:nvSpPr>
          <p:spPr>
            <a:xfrm flipH="1">
              <a:off x="2743200" y="4876920"/>
              <a:ext cx="5335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8" name="Line 12"/>
            <p:cNvSpPr/>
            <p:nvPr/>
          </p:nvSpPr>
          <p:spPr>
            <a:xfrm flipH="1" flipV="1">
              <a:off x="1752480" y="4038120"/>
              <a:ext cx="990720" cy="8384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9" name="Group 13"/>
          <p:cNvGrpSpPr/>
          <p:nvPr/>
        </p:nvGrpSpPr>
        <p:grpSpPr>
          <a:xfrm>
            <a:off x="5181480" y="4114800"/>
            <a:ext cx="1524240" cy="838080"/>
            <a:chOff x="5181480" y="4114800"/>
            <a:chExt cx="1524240" cy="838080"/>
          </a:xfrm>
        </p:grpSpPr>
        <p:sp>
          <p:nvSpPr>
            <p:cNvPr id="980" name="Line 14"/>
            <p:cNvSpPr/>
            <p:nvPr/>
          </p:nvSpPr>
          <p:spPr>
            <a:xfrm flipH="1">
              <a:off x="6172200" y="4952880"/>
              <a:ext cx="5335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1" name="Line 15"/>
            <p:cNvSpPr/>
            <p:nvPr/>
          </p:nvSpPr>
          <p:spPr>
            <a:xfrm flipH="1" flipV="1">
              <a:off x="5181480" y="4114800"/>
              <a:ext cx="990720" cy="8380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380880" y="1219320"/>
            <a:ext cx="5486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ouble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box_wid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dimensi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full dimension name is inserted into cell B2. The dimension value is inserted into cell B3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next cell, C2, is automatically selected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ouble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box_heigh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dimens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4" name="Picture 7" descr="5TABFIR"/>
          <p:cNvPicPr/>
          <p:nvPr/>
        </p:nvPicPr>
        <p:blipFill>
          <a:blip r:embed="rId1"/>
          <a:stretch/>
        </p:blipFill>
        <p:spPr>
          <a:xfrm>
            <a:off x="6019920" y="2438280"/>
            <a:ext cx="2504880" cy="11811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8" descr="5FINTAB2"/>
          <p:cNvPicPr/>
          <p:nvPr/>
        </p:nvPicPr>
        <p:blipFill>
          <a:blip r:embed="rId2"/>
          <a:stretch/>
        </p:blipFill>
        <p:spPr>
          <a:xfrm>
            <a:off x="5791320" y="4495680"/>
            <a:ext cx="285732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peat this process for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hole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fillet_radiu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and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Dep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915840" indent="-457200">
              <a:spcBef>
                <a:spcPts val="499"/>
              </a:spcBef>
              <a:buClr>
                <a:srgbClr val="19663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637"/>
                </a:solidFill>
                <a:latin typeface="Arial Narrow"/>
              </a:rPr>
              <a:t>Note:</a:t>
            </a: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 Since the depth dimensions of the Knob and the Box are linked together, you only need one of them in the design tabl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lvl="1" marL="9158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196637"/>
                </a:solidFill>
                <a:latin typeface="Arial Narrow"/>
              </a:rPr>
              <a:t>Excel tip:</a:t>
            </a: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 Dimension names tend to be very long. Use the Excel command Format, Cells, and click Wrap Text on the Alignment tab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8" name="Picture 5" descr="5FINTAB3"/>
          <p:cNvPicPr/>
          <p:nvPr/>
        </p:nvPicPr>
        <p:blipFill>
          <a:blip r:embed="rId1"/>
          <a:stretch/>
        </p:blipFill>
        <p:spPr>
          <a:xfrm>
            <a:off x="1676520" y="3048120"/>
            <a:ext cx="6024600" cy="1477800"/>
          </a:xfrm>
          <a:prstGeom prst="rect">
            <a:avLst/>
          </a:prstGeom>
          <a:ln w="38160">
            <a:solidFill>
              <a:srgbClr val="f9c85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9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Enter new configuration names in column A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Replace Default with blk1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Fill cells A4 through A6 with blk2, blk3, and blk4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Fill in the dimension values as shown below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1" name="Picture 5" descr="5FINTAB4"/>
          <p:cNvPicPr/>
          <p:nvPr/>
        </p:nvPicPr>
        <p:blipFill>
          <a:blip r:embed="rId1"/>
          <a:stretch/>
        </p:blipFill>
        <p:spPr>
          <a:xfrm>
            <a:off x="1143000" y="3581280"/>
            <a:ext cx="6627960" cy="1798920"/>
          </a:xfrm>
          <a:prstGeom prst="rect">
            <a:avLst/>
          </a:prstGeom>
          <a:ln w="38160">
            <a:solidFill>
              <a:srgbClr val="f9c85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lose the Excel Workshee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837720" y="1296720"/>
            <a:ext cx="76201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500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in the graphics area outside the workshee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system builds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he configurat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OK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Design Table i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embedded 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tored in the part document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design table icon appears in the FeatureManage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ave the part docum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4" name="Picture 7" descr="DT_Icon"/>
          <p:cNvPicPr/>
          <p:nvPr/>
        </p:nvPicPr>
        <p:blipFill>
          <a:blip r:embed="rId1"/>
          <a:stretch/>
        </p:blipFill>
        <p:spPr>
          <a:xfrm>
            <a:off x="3276720" y="3429000"/>
            <a:ext cx="914400" cy="200160"/>
          </a:xfrm>
          <a:prstGeom prst="rect">
            <a:avLst/>
          </a:prstGeom>
          <a:ln w="28440">
            <a:solidFill>
              <a:srgbClr val="f9c852"/>
            </a:solidFill>
            <a:miter/>
          </a:ln>
        </p:spPr>
      </p:pic>
      <p:pic>
        <p:nvPicPr>
          <p:cNvPr id="995" name="Picture 8" descr="DTNewConfig"/>
          <p:cNvPicPr/>
          <p:nvPr/>
        </p:nvPicPr>
        <p:blipFill>
          <a:blip r:embed="rId2"/>
          <a:stretch/>
        </p:blipFill>
        <p:spPr>
          <a:xfrm>
            <a:off x="4648320" y="1905120"/>
            <a:ext cx="33145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View Part Configur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899640" y="1294920"/>
            <a:ext cx="789156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the Configuratio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Manager tab        at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op of the FeatureManager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window. The list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onfigurations is display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ouble-click each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onfigura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601"/>
              </a:spcBef>
              <a:buClr>
                <a:srgbClr val="4b575f"/>
              </a:buClr>
              <a:buFont typeface="Arial Narrow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8" name="Picture 12" descr="tree-Configs"/>
          <p:cNvPicPr/>
          <p:nvPr/>
        </p:nvPicPr>
        <p:blipFill>
          <a:blip r:embed="rId1"/>
          <a:stretch/>
        </p:blipFill>
        <p:spPr>
          <a:xfrm>
            <a:off x="4724280" y="1371600"/>
            <a:ext cx="2286000" cy="444168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1" descr="ConfigManTab"/>
          <p:cNvPicPr/>
          <p:nvPr/>
        </p:nvPicPr>
        <p:blipFill>
          <a:blip r:embed="rId2"/>
          <a:stretch/>
        </p:blipFill>
        <p:spPr>
          <a:xfrm>
            <a:off x="3017880" y="1676520"/>
            <a:ext cx="411120" cy="35388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0" descr="Configs"/>
          <p:cNvPicPr/>
          <p:nvPr/>
        </p:nvPicPr>
        <p:blipFill>
          <a:blip r:embed="rId3"/>
          <a:stretch/>
        </p:blipFill>
        <p:spPr>
          <a:xfrm>
            <a:off x="7108920" y="1371600"/>
            <a:ext cx="18828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Viewing Part Configur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899640" y="1066680"/>
            <a:ext cx="78915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part is automatically rebuilt using the dimension values from the design tabl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1003" name="Picture 8" descr="BLK1"/>
          <p:cNvPicPr/>
          <p:nvPr/>
        </p:nvPicPr>
        <p:blipFill>
          <a:blip r:embed="rId1"/>
          <a:stretch/>
        </p:blipFill>
        <p:spPr>
          <a:xfrm>
            <a:off x="2211480" y="1905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9" descr="BLK4"/>
          <p:cNvPicPr/>
          <p:nvPr/>
        </p:nvPicPr>
        <p:blipFill>
          <a:blip r:embed="rId2"/>
          <a:stretch/>
        </p:blipFill>
        <p:spPr>
          <a:xfrm>
            <a:off x="5108400" y="1905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0" descr="BLK2"/>
          <p:cNvPicPr/>
          <p:nvPr/>
        </p:nvPicPr>
        <p:blipFill>
          <a:blip r:embed="rId3"/>
          <a:stretch/>
        </p:blipFill>
        <p:spPr>
          <a:xfrm>
            <a:off x="2055960" y="4191120"/>
            <a:ext cx="2724120" cy="228420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1" descr="BLK3"/>
          <p:cNvPicPr/>
          <p:nvPr/>
        </p:nvPicPr>
        <p:blipFill>
          <a:blip r:embed="rId4"/>
          <a:stretch/>
        </p:blipFill>
        <p:spPr>
          <a:xfrm>
            <a:off x="5410080" y="4191120"/>
            <a:ext cx="178272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Table Overview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5654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can control the state of a featur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tate of a feature can b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uppresse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or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unsuppresse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(also called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resolve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). A suppressed feature is not rebuilt or display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requires Microsoft Excel applica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53" name="Picture 4" descr=""/>
          <p:cNvPicPr/>
          <p:nvPr/>
        </p:nvPicPr>
        <p:blipFill>
          <a:blip r:embed="rId1"/>
          <a:stretch/>
        </p:blipFill>
        <p:spPr>
          <a:xfrm>
            <a:off x="6413400" y="990720"/>
            <a:ext cx="2281320" cy="23256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6" descr=""/>
          <p:cNvPicPr/>
          <p:nvPr/>
        </p:nvPicPr>
        <p:blipFill>
          <a:blip r:embed="rId2"/>
          <a:stretch/>
        </p:blipFill>
        <p:spPr>
          <a:xfrm>
            <a:off x="6413400" y="3457440"/>
            <a:ext cx="2273400" cy="236088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8"/>
          <p:cNvSpPr/>
          <p:nvPr/>
        </p:nvSpPr>
        <p:spPr>
          <a:xfrm>
            <a:off x="4951080" y="5865840"/>
            <a:ext cx="29581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6637"/>
                </a:solidFill>
                <a:latin typeface="Arial"/>
              </a:rPr>
              <a:t>Center hole suppressed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Tables Requi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53341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637"/>
                </a:solidFill>
                <a:latin typeface="Arial"/>
                <a:ea typeface="Arial"/>
              </a:rPr>
              <a:t>Tip:</a:t>
            </a:r>
            <a:r>
              <a:rPr b="0" lang="en-US" sz="2000" spc="-1" strike="noStrike">
                <a:solidFill>
                  <a:srgbClr val="4b575f"/>
                </a:solidFill>
                <a:latin typeface="Arial"/>
                <a:ea typeface="Arial"/>
              </a:rPr>
              <a:t>   Rename features and dimensions before creating a  design tabl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58" name="Picture 4" descr=""/>
          <p:cNvPicPr/>
          <p:nvPr/>
        </p:nvPicPr>
        <p:blipFill>
          <a:blip r:embed="rId1"/>
          <a:stretch/>
        </p:blipFill>
        <p:spPr>
          <a:xfrm>
            <a:off x="438120" y="2143080"/>
            <a:ext cx="7862760" cy="228600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6"/>
          <p:cNvSpPr/>
          <p:nvPr/>
        </p:nvSpPr>
        <p:spPr>
          <a:xfrm>
            <a:off x="3042000" y="4724280"/>
            <a:ext cx="2152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Configuration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0" name="Text Box 7"/>
          <p:cNvSpPr/>
          <p:nvPr/>
        </p:nvSpPr>
        <p:spPr>
          <a:xfrm>
            <a:off x="3652560" y="1295280"/>
            <a:ext cx="4258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Dimension and/or Feature names</a:t>
            </a:r>
            <a:br>
              <a:rPr sz="1800"/>
            </a:b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or special keyword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1" name="Text Box 8"/>
          <p:cNvSpPr/>
          <p:nvPr/>
        </p:nvSpPr>
        <p:spPr>
          <a:xfrm>
            <a:off x="6625080" y="4724280"/>
            <a:ext cx="1387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Value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862" name="Group 11"/>
          <p:cNvGrpSpPr/>
          <p:nvPr/>
        </p:nvGrpSpPr>
        <p:grpSpPr>
          <a:xfrm>
            <a:off x="2971440" y="1447920"/>
            <a:ext cx="914400" cy="1447560"/>
            <a:chOff x="2971440" y="1447920"/>
            <a:chExt cx="914400" cy="1447560"/>
          </a:xfrm>
        </p:grpSpPr>
        <p:sp>
          <p:nvSpPr>
            <p:cNvPr id="863" name="Line 9"/>
            <p:cNvSpPr/>
            <p:nvPr/>
          </p:nvSpPr>
          <p:spPr>
            <a:xfrm flipH="1">
              <a:off x="3580920" y="1447920"/>
              <a:ext cx="3049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4" name="Line 10"/>
            <p:cNvSpPr/>
            <p:nvPr/>
          </p:nvSpPr>
          <p:spPr>
            <a:xfrm flipH="1">
              <a:off x="2971440" y="1447920"/>
              <a:ext cx="609480" cy="144756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65" name="Group 16"/>
          <p:cNvGrpSpPr/>
          <p:nvPr/>
        </p:nvGrpSpPr>
        <p:grpSpPr>
          <a:xfrm>
            <a:off x="1752480" y="4038120"/>
            <a:ext cx="1524240" cy="838800"/>
            <a:chOff x="1752480" y="4038120"/>
            <a:chExt cx="1524240" cy="838800"/>
          </a:xfrm>
        </p:grpSpPr>
        <p:sp>
          <p:nvSpPr>
            <p:cNvPr id="866" name="Line 14"/>
            <p:cNvSpPr/>
            <p:nvPr/>
          </p:nvSpPr>
          <p:spPr>
            <a:xfrm flipH="1">
              <a:off x="2743200" y="4876920"/>
              <a:ext cx="5335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7" name="Line 15"/>
            <p:cNvSpPr/>
            <p:nvPr/>
          </p:nvSpPr>
          <p:spPr>
            <a:xfrm flipH="1" flipV="1">
              <a:off x="1752480" y="4038120"/>
              <a:ext cx="990720" cy="8384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68" name="Group 17"/>
          <p:cNvGrpSpPr/>
          <p:nvPr/>
        </p:nvGrpSpPr>
        <p:grpSpPr>
          <a:xfrm>
            <a:off x="5333760" y="4038120"/>
            <a:ext cx="1523520" cy="838800"/>
            <a:chOff x="5333760" y="4038120"/>
            <a:chExt cx="1523520" cy="838800"/>
          </a:xfrm>
        </p:grpSpPr>
        <p:sp>
          <p:nvSpPr>
            <p:cNvPr id="869" name="Line 18"/>
            <p:cNvSpPr/>
            <p:nvPr/>
          </p:nvSpPr>
          <p:spPr>
            <a:xfrm flipH="1">
              <a:off x="6324120" y="4876920"/>
              <a:ext cx="53316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0" name="Line 19"/>
            <p:cNvSpPr/>
            <p:nvPr/>
          </p:nvSpPr>
          <p:spPr>
            <a:xfrm flipH="1" flipV="1">
              <a:off x="5333760" y="4038120"/>
              <a:ext cx="990360" cy="8384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695016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name Features and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eature and Dimension names us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 a Design Table should be renam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o better describe their func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hich is easier to understand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D1@Cut-Extrude1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Width@Oval_Slot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3" name="Picture 4" descr=""/>
          <p:cNvPicPr/>
          <p:nvPr/>
        </p:nvPicPr>
        <p:blipFill>
          <a:blip r:embed="rId1"/>
          <a:stretch/>
        </p:blipFill>
        <p:spPr>
          <a:xfrm>
            <a:off x="5262480" y="1143000"/>
            <a:ext cx="3348000" cy="48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Rename a Featu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5575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-pause-click o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Extrude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in the FeatureManager design tree (do not double-click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ip: Instead of the click-pause-click technique, you can select the feature, and then press the function key F2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feature name is highlighted in blue, ready to be edit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ype the new name,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and press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Enter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6" name="Picture 6" descr="RenameFeature"/>
          <p:cNvPicPr/>
          <p:nvPr/>
        </p:nvPicPr>
        <p:blipFill>
          <a:blip r:embed="rId1"/>
          <a:stretch/>
        </p:blipFill>
        <p:spPr>
          <a:xfrm>
            <a:off x="6553080" y="1371600"/>
            <a:ext cx="2184480" cy="407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name the Other Features Used in the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5334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name Extrude2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nam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ut-Extrude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Hole_in_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nam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Fillet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Outside_corner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9" name="Picture 8" descr="RenameFeature2"/>
          <p:cNvPicPr/>
          <p:nvPr/>
        </p:nvPicPr>
        <p:blipFill>
          <a:blip r:embed="rId1"/>
          <a:stretch/>
        </p:blipFill>
        <p:spPr>
          <a:xfrm>
            <a:off x="6553080" y="1371600"/>
            <a:ext cx="2194200" cy="405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Display Feature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400" y="1296720"/>
            <a:ext cx="4952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Annota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older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Show Feature Dimens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2" name="Picture 6" descr=""/>
          <p:cNvPicPr/>
          <p:nvPr/>
        </p:nvPicPr>
        <p:blipFill>
          <a:blip r:embed="rId1"/>
          <a:stretch/>
        </p:blipFill>
        <p:spPr>
          <a:xfrm>
            <a:off x="2514600" y="3809880"/>
            <a:ext cx="2643120" cy="235440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8" descr="DisplayDims"/>
          <p:cNvPicPr/>
          <p:nvPr/>
        </p:nvPicPr>
        <p:blipFill>
          <a:blip r:embed="rId2"/>
          <a:stretch/>
        </p:blipFill>
        <p:spPr>
          <a:xfrm>
            <a:off x="5902200" y="1066680"/>
            <a:ext cx="2175120" cy="27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20:12:14Z</dcterms:created>
  <dc:creator>jmatsumoto</dc:creator>
  <dc:description/>
  <dc:language>en-US</dc:language>
  <cp:lastModifiedBy>ECES21</cp:lastModifiedBy>
  <dcterms:modified xsi:type="dcterms:W3CDTF">2013-10-29T18:58:20Z</dcterms:modified>
  <cp:revision>70</cp:revision>
  <dc:subject/>
  <dc:title>Presentation Title</dc:title>
</cp:coreProperties>
</file>