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.jpeg" ContentType="image/jpeg"/>
  <Override PartName="/ppt/media/image20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7.jpeg" ContentType="image/jpeg"/>
  <Override PartName="/ppt/media/image37.png" ContentType="image/png"/>
  <Override PartName="/ppt/media/image41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40.png" ContentType="image/png"/>
  <Override PartName="/ppt/media/image11.png" ContentType="image/png"/>
  <Override PartName="/ppt/media/image48.png" ContentType="image/png"/>
  <Override PartName="/ppt/media/image9.jpeg" ContentType="image/jpeg"/>
  <Override PartName="/ppt/media/image52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49.png" ContentType="image/png"/>
  <Override PartName="/ppt/media/image12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move the slid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DB730-1F79-489E-8665-C52E78CB38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EF0F9-87D1-427C-8A03-4900E79DBDF8}" type="slidenum">
              <a:rPr b="0" lang="en-US" sz="13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4E95A-9348-4ED9-9B11-5EF9EFE690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D1D3D-69AA-47BF-8FBF-336BEEF6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B5DF3-8A9B-4398-A1BE-F53048A6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2FBF4-B0EE-43A3-8445-B624B0E5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9C1DE-0B09-4222-A75C-C4126504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F8F3E-23C6-4DFD-B18A-F20A836E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39341-164A-459B-834B-F1B6D051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928A9-55D0-4295-B8D8-B2ECC880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43D23-5A8C-44F9-9B16-505B902F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82E91-30F2-4FB8-B58A-8777648E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6981D-1690-4668-9384-5C0A9698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579DC-6F76-4A1E-A008-E17E5353E4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2173-SolidWorks-bk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8220600" y="63975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9490-508B-4E0E-8945-8833814F8993}" type="slidenum">
              <a:rPr b="1" lang="en-US" sz="14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1600" y="108000"/>
            <a:ext cx="75866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1240" y="1296720"/>
            <a:ext cx="86504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35040" indent="-28584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777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2084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16635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" name="Picture 6" descr="swlogcol"/>
          <p:cNvPicPr/>
          <p:nvPr/>
        </p:nvPicPr>
        <p:blipFill>
          <a:blip r:embed="rId3"/>
          <a:stretch/>
        </p:blipFill>
        <p:spPr>
          <a:xfrm>
            <a:off x="7983360" y="306360"/>
            <a:ext cx="102420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8A8D-FD2F-4047-BCE2-BBB73D12BB11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1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1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2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2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42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9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5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C478-47BD-4729-ABE1-912C2B25D95D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5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68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69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471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472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2842-9531-4693-BF4A-F7A8AC5064B7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12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514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15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516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18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519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39A2-714F-437B-969A-D34FEF711271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59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561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62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563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65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7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B832-4FFC-42EF-BF3E-4919CF2AE1D8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0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60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1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61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1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FEA2-0F0B-45E0-B370-EC71A3FCDE27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5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65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5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65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5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97AE-6C0C-4C8A-818E-56E0309974C4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9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01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02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03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05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1"/>
          </p:nvPr>
        </p:nvSpPr>
        <p:spPr>
          <a:xfrm>
            <a:off x="5410080" y="6552720"/>
            <a:ext cx="674640" cy="2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sldNum" idx="2"/>
          </p:nvPr>
        </p:nvSpPr>
        <p:spPr>
          <a:xfrm>
            <a:off x="6095520" y="6575040"/>
            <a:ext cx="4748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EC72-0E67-4203-BC67-A1E95ED7E6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5B9C-F7CD-4FE5-96D5-6CF2633E88C1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4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4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5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5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5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9343-A93D-46D4-B793-D6BF05E6D3D2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9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9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9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9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9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E04C-E014-4BB1-ABF4-1DD7614AD8AB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6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7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8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0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2173-SolidWorks-bk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8220600" y="63975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A394-DD0C-4549-ABBF-117081636B2F}" type="slidenum">
              <a:rPr b="1" lang="en-US" sz="14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9" name="Picture 6" descr="swlogcol"/>
          <p:cNvPicPr/>
          <p:nvPr/>
        </p:nvPicPr>
        <p:blipFill>
          <a:blip r:embed="rId3"/>
          <a:stretch/>
        </p:blipFill>
        <p:spPr>
          <a:xfrm>
            <a:off x="7983360" y="306360"/>
            <a:ext cx="1024200" cy="55872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2"/>
          <p:cNvGrpSpPr/>
          <p:nvPr/>
        </p:nvGrpSpPr>
        <p:grpSpPr>
          <a:xfrm>
            <a:off x="3240" y="12600"/>
            <a:ext cx="9140760" cy="6854760"/>
            <a:chOff x="3240" y="12600"/>
            <a:chExt cx="9140760" cy="6854760"/>
          </a:xfrm>
        </p:grpSpPr>
        <p:pic>
          <p:nvPicPr>
            <p:cNvPr id="91" name="Picture 3" descr="12173-SolidWorks-cov"/>
            <p:cNvPicPr/>
            <p:nvPr/>
          </p:nvPicPr>
          <p:blipFill>
            <a:blip r:embed="rId4"/>
            <a:stretch/>
          </p:blipFill>
          <p:spPr>
            <a:xfrm>
              <a:off x="3240" y="12600"/>
              <a:ext cx="9140760" cy="68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6370560" y="6304680"/>
              <a:ext cx="2409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9c8e80"/>
                  </a:solidFill>
                  <a:latin typeface="Arial"/>
                </a:rPr>
                <a:t>Image courtesy of National Optical Astronomy Observatory, operated by the Association of Universities for Research in Astronomy, under cooperative agreement with the National Science Foundation.</a:t>
              </a:r>
              <a:endParaRPr b="1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93" name="Picture 5" descr="swlogcol"/>
            <p:cNvPicPr/>
            <p:nvPr/>
          </p:nvPicPr>
          <p:blipFill>
            <a:blip r:embed="rId5"/>
            <a:stretch/>
          </p:blipFill>
          <p:spPr>
            <a:xfrm>
              <a:off x="7437600" y="442800"/>
              <a:ext cx="1338120" cy="73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1600" y="108000"/>
            <a:ext cx="75866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01240" y="1296720"/>
            <a:ext cx="86504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35040" indent="-28584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777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2084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16635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5140-61FC-46F2-816A-216538EF2A4D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13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3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pic>
        <p:nvPicPr>
          <p:cNvPr id="140" name="Image 8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1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EB4B-F1CD-4B36-B8F1-E4A8E40F857E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81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84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185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87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CBA4-69E1-4457-9EA5-9CE2E5C88E37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8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31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232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234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pic>
        <p:nvPicPr>
          <p:cNvPr id="235" name="Image 6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8C5E-C681-4118-8493-70AB327AD1F6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5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78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279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281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BB3F-AC1F-423E-9164-6C99CDBEA588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22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324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25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326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328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30" name="Image 6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C061-8BBA-432E-A563-40AA76EE03BF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70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73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374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376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377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9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0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0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9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0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9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9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9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66400" y="1447920"/>
            <a:ext cx="853452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575f"/>
                </a:solidFill>
                <a:latin typeface="Arial Narrow"/>
              </a:rPr>
              <a:t>Instructor’s Guide to Teaching SolidWorks Software Lesson 4</a:t>
            </a:r>
            <a:endParaRPr b="1" lang="en-US" sz="32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362320" y="2437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arly College EAS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s. Sparnel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14400" y="190080"/>
            <a:ext cx="687384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Tutor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Assembly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01600" y="1296720"/>
            <a:ext cx="42465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Tutor assembly is comprised of two parts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utor1 (created in Lesson 2)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utor2 (created in this lesson)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84" name="Picture 4" descr=""/>
          <p:cNvPicPr/>
          <p:nvPr/>
        </p:nvPicPr>
        <p:blipFill>
          <a:blip r:embed="rId1"/>
          <a:stretch/>
        </p:blipFill>
        <p:spPr>
          <a:xfrm>
            <a:off x="5764320" y="3884760"/>
            <a:ext cx="2135160" cy="235404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6" descr=""/>
          <p:cNvPicPr/>
          <p:nvPr/>
        </p:nvPicPr>
        <p:blipFill>
          <a:blip r:embed="rId2"/>
          <a:stretch/>
        </p:blipFill>
        <p:spPr>
          <a:xfrm>
            <a:off x="4368960" y="1351080"/>
            <a:ext cx="2066760" cy="218412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8" descr=""/>
          <p:cNvPicPr/>
          <p:nvPr/>
        </p:nvPicPr>
        <p:blipFill>
          <a:blip r:embed="rId3"/>
          <a:stretch/>
        </p:blipFill>
        <p:spPr>
          <a:xfrm>
            <a:off x="6705720" y="1295280"/>
            <a:ext cx="2133360" cy="2438640"/>
          </a:xfrm>
          <a:prstGeom prst="rect">
            <a:avLst/>
          </a:prstGeom>
          <a:ln w="0">
            <a:noFill/>
          </a:ln>
        </p:spPr>
      </p:pic>
      <p:sp>
        <p:nvSpPr>
          <p:cNvPr id="887" name="Line 10"/>
          <p:cNvSpPr/>
          <p:nvPr/>
        </p:nvSpPr>
        <p:spPr>
          <a:xfrm>
            <a:off x="5715000" y="3657600"/>
            <a:ext cx="380880" cy="838080"/>
          </a:xfrm>
          <a:prstGeom prst="line">
            <a:avLst/>
          </a:prstGeom>
          <a:ln w="76320">
            <a:solidFill>
              <a:srgbClr val="1966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8" name="Line 11"/>
          <p:cNvSpPr/>
          <p:nvPr/>
        </p:nvSpPr>
        <p:spPr>
          <a:xfrm flipH="1">
            <a:off x="7358040" y="3705120"/>
            <a:ext cx="533520" cy="685800"/>
          </a:xfrm>
          <a:prstGeom prst="line">
            <a:avLst/>
          </a:prstGeom>
          <a:ln w="76320">
            <a:solidFill>
              <a:srgbClr val="1966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ssembly Basic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83808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n assembly contains two or more par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 an assembly, parts are referred to as componen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ates are relationships that align and fit components together in an assemb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mponents and their assembly are directly related through file linking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hanges in the components affect the assemb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hanges in the assembly affect the componen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create the Tutor assembly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2895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pen a new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ssembly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ocument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emplat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pen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utor1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pen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utor2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rrange the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window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93" name="Picture 19" descr="SWAssem"/>
          <p:cNvPicPr/>
          <p:nvPr/>
        </p:nvPicPr>
        <p:blipFill>
          <a:blip r:embed="rId1"/>
          <a:stretch/>
        </p:blipFill>
        <p:spPr>
          <a:xfrm>
            <a:off x="2743200" y="1371600"/>
            <a:ext cx="6105600" cy="48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Picture 23" descr="SWAssem2"/>
          <p:cNvPicPr/>
          <p:nvPr/>
        </p:nvPicPr>
        <p:blipFill>
          <a:blip r:embed="rId1"/>
          <a:stretch/>
        </p:blipFill>
        <p:spPr>
          <a:xfrm>
            <a:off x="2666880" y="1371600"/>
            <a:ext cx="6115320" cy="4875120"/>
          </a:xfrm>
          <a:prstGeom prst="rect">
            <a:avLst/>
          </a:prstGeom>
          <a:ln w="0">
            <a:noFill/>
          </a:ln>
        </p:spPr>
      </p:pic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90720" y="266760"/>
            <a:ext cx="679752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reating the Tutor assembly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201240" y="1296720"/>
            <a:ext cx="2389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rag an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rop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part icons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to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ssembly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ocument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ave the assembly as Tutor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7" name="Line 12"/>
          <p:cNvSpPr/>
          <p:nvPr/>
        </p:nvSpPr>
        <p:spPr>
          <a:xfrm flipH="1">
            <a:off x="5410080" y="4572000"/>
            <a:ext cx="533520" cy="228600"/>
          </a:xfrm>
          <a:prstGeom prst="line">
            <a:avLst/>
          </a:prstGeom>
          <a:ln w="57240">
            <a:solidFill>
              <a:srgbClr val="1966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8" name="Line 13"/>
          <p:cNvSpPr/>
          <p:nvPr/>
        </p:nvSpPr>
        <p:spPr>
          <a:xfrm flipH="1">
            <a:off x="4952880" y="2438280"/>
            <a:ext cx="990720" cy="609840"/>
          </a:xfrm>
          <a:prstGeom prst="line">
            <a:avLst/>
          </a:prstGeom>
          <a:ln w="57240">
            <a:solidFill>
              <a:srgbClr val="1966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ssembly Basic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899640" y="1294920"/>
            <a:ext cx="789156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first component placed into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n assembly is fix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 fixed component cannot mo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f you want to move a fixe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mponent, you must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loat (unfix) it firs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utor1 is added to the FeatureManager design tree with the symbol (f)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ymbol (f) indicates a fixed compon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01" name="Picture 8" descr="AssemFM"/>
          <p:cNvPicPr/>
          <p:nvPr/>
        </p:nvPicPr>
        <p:blipFill>
          <a:blip r:embed="rId1"/>
          <a:stretch/>
        </p:blipFill>
        <p:spPr>
          <a:xfrm>
            <a:off x="6400800" y="1143000"/>
            <a:ext cx="18381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ssembly Basic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838080" y="1296720"/>
            <a:ext cx="5654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utor2 is added to the FeatureManager design tree with the symbol (-)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ymbol (-) indicates an underdefined compon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utor2 is free to move and rotat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04" name="Picture 7" descr="AssemFM"/>
          <p:cNvPicPr/>
          <p:nvPr/>
        </p:nvPicPr>
        <p:blipFill>
          <a:blip r:embed="rId1"/>
          <a:stretch/>
        </p:blipFill>
        <p:spPr>
          <a:xfrm>
            <a:off x="6553080" y="1371600"/>
            <a:ext cx="18385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nipulating Componen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914400" y="1296720"/>
            <a:ext cx="5656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ove components by dragging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ove components with a tria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ove Component       – translates (moves) the selected component according to its available degrees of freedo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07" name="Picture 8" descr="icon_move_component"/>
          <p:cNvPicPr/>
          <p:nvPr/>
        </p:nvPicPr>
        <p:blipFill>
          <a:blip r:embed="rId1"/>
          <a:stretch/>
        </p:blipFill>
        <p:spPr>
          <a:xfrm>
            <a:off x="3429000" y="2209680"/>
            <a:ext cx="284040" cy="271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9" descr="MoveComp"/>
          <p:cNvPicPr/>
          <p:nvPr/>
        </p:nvPicPr>
        <p:blipFill>
          <a:blip r:embed="rId2"/>
          <a:stretch/>
        </p:blipFill>
        <p:spPr>
          <a:xfrm>
            <a:off x="6553080" y="1371600"/>
            <a:ext cx="18385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nipulating Componen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837720" y="1296720"/>
            <a:ext cx="59691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e components by dragging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e components with a tria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e Component        – rotates the selected component according to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ts available degrees of freedo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11" name="Picture 8" descr="icon_rotate_component"/>
          <p:cNvPicPr/>
          <p:nvPr/>
        </p:nvPicPr>
        <p:blipFill>
          <a:blip r:embed="rId1"/>
          <a:stretch/>
        </p:blipFill>
        <p:spPr>
          <a:xfrm>
            <a:off x="3505320" y="2209680"/>
            <a:ext cx="284040" cy="27144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9" descr="RotateComp"/>
          <p:cNvPicPr/>
          <p:nvPr/>
        </p:nvPicPr>
        <p:blipFill>
          <a:blip r:embed="rId2"/>
          <a:stretch/>
        </p:blipFill>
        <p:spPr>
          <a:xfrm>
            <a:off x="6553080" y="1371600"/>
            <a:ext cx="18385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Degrees of Freedom: There are Si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886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y describe how an object is free to mo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ranslation (movement) along X, Y, and Z ax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ion around X, Y, and Z ax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15" name="Picture 4" descr=""/>
          <p:cNvPicPr/>
          <p:nvPr/>
        </p:nvPicPr>
        <p:blipFill>
          <a:blip r:embed="rId1"/>
          <a:stretch/>
        </p:blipFill>
        <p:spPr>
          <a:xfrm>
            <a:off x="4602240" y="1936800"/>
            <a:ext cx="4249800" cy="358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te Relationship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777528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ate relationships align and fit together components in an assemb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utor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assembly requires three mates to fully define it.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three mates are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Coinciden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between the top back edge of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utor1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and the edge of the lip on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utor2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grpSp>
        <p:nvGrpSpPr>
          <p:cNvPr id="918" name="Group 18"/>
          <p:cNvGrpSpPr/>
          <p:nvPr/>
        </p:nvGrpSpPr>
        <p:grpSpPr>
          <a:xfrm>
            <a:off x="5176440" y="3962520"/>
            <a:ext cx="3758040" cy="2685960"/>
            <a:chOff x="5176440" y="3962520"/>
            <a:chExt cx="3758040" cy="2685960"/>
          </a:xfrm>
        </p:grpSpPr>
        <p:pic>
          <p:nvPicPr>
            <p:cNvPr id="919" name="Picture 10" descr=""/>
            <p:cNvPicPr/>
            <p:nvPr/>
          </p:nvPicPr>
          <p:blipFill>
            <a:blip r:embed="rId1"/>
            <a:stretch/>
          </p:blipFill>
          <p:spPr>
            <a:xfrm>
              <a:off x="5867280" y="3962520"/>
              <a:ext cx="3067200" cy="26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Text Box 13"/>
            <p:cNvSpPr/>
            <p:nvPr/>
          </p:nvSpPr>
          <p:spPr>
            <a:xfrm>
              <a:off x="5176440" y="5562720"/>
              <a:ext cx="136260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Tutor1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1" name="Text Box 14"/>
            <p:cNvSpPr/>
            <p:nvPr/>
          </p:nvSpPr>
          <p:spPr>
            <a:xfrm>
              <a:off x="6395760" y="6172200"/>
              <a:ext cx="136260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Tutor2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2" name="Text Box 15"/>
            <p:cNvSpPr/>
            <p:nvPr/>
          </p:nvSpPr>
          <p:spPr>
            <a:xfrm>
              <a:off x="7386840" y="3962520"/>
              <a:ext cx="13366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Edg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3" name="Line 16"/>
            <p:cNvSpPr/>
            <p:nvPr/>
          </p:nvSpPr>
          <p:spPr>
            <a:xfrm flipH="1">
              <a:off x="6781320" y="4114800"/>
              <a:ext cx="838440" cy="30492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4" name="Line 17"/>
            <p:cNvSpPr/>
            <p:nvPr/>
          </p:nvSpPr>
          <p:spPr>
            <a:xfrm>
              <a:off x="7620120" y="4114800"/>
              <a:ext cx="152280" cy="99072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14400" y="10800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Features Used to Build Tutor2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48" name="Picture 4" descr=""/>
          <p:cNvPicPr/>
          <p:nvPr/>
        </p:nvPicPr>
        <p:blipFill>
          <a:blip r:embed="rId1"/>
          <a:stretch/>
        </p:blipFill>
        <p:spPr>
          <a:xfrm>
            <a:off x="1224000" y="1508040"/>
            <a:ext cx="2141640" cy="236052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6" descr=""/>
          <p:cNvPicPr/>
          <p:nvPr/>
        </p:nvPicPr>
        <p:blipFill>
          <a:blip r:embed="rId2"/>
          <a:stretch/>
        </p:blipFill>
        <p:spPr>
          <a:xfrm>
            <a:off x="5627520" y="1508040"/>
            <a:ext cx="2141640" cy="236052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8" descr=""/>
          <p:cNvPicPr/>
          <p:nvPr/>
        </p:nvPicPr>
        <p:blipFill>
          <a:blip r:embed="rId3"/>
          <a:stretch/>
        </p:blipFill>
        <p:spPr>
          <a:xfrm>
            <a:off x="1368360" y="3803760"/>
            <a:ext cx="1914480" cy="235584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10" descr=""/>
          <p:cNvPicPr/>
          <p:nvPr/>
        </p:nvPicPr>
        <p:blipFill>
          <a:blip r:embed="rId4"/>
          <a:stretch/>
        </p:blipFill>
        <p:spPr>
          <a:xfrm>
            <a:off x="5638680" y="4305240"/>
            <a:ext cx="2075040" cy="2552760"/>
          </a:xfrm>
          <a:prstGeom prst="rect">
            <a:avLst/>
          </a:prstGeom>
          <a:ln w="0">
            <a:noFill/>
          </a:ln>
        </p:spPr>
      </p:pic>
      <p:sp>
        <p:nvSpPr>
          <p:cNvPr id="852" name="Text Box 12"/>
          <p:cNvSpPr/>
          <p:nvPr/>
        </p:nvSpPr>
        <p:spPr>
          <a:xfrm>
            <a:off x="1526760" y="11430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1.Base Extrude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3" name="Text Box 13"/>
          <p:cNvSpPr/>
          <p:nvPr/>
        </p:nvSpPr>
        <p:spPr>
          <a:xfrm>
            <a:off x="6173280" y="11430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2.Fillet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4" name="Text Box 14"/>
          <p:cNvSpPr/>
          <p:nvPr/>
        </p:nvSpPr>
        <p:spPr>
          <a:xfrm>
            <a:off x="1982160" y="40384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3.Shel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5" name="Text Box 15"/>
          <p:cNvSpPr/>
          <p:nvPr/>
        </p:nvSpPr>
        <p:spPr>
          <a:xfrm>
            <a:off x="5945040" y="39625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4.Cut Extrude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te Relationship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837720" y="1296720"/>
            <a:ext cx="60483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Mate: Coincident mate betwee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right face of Tutor1 and the right fac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 Tutor2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Mate: Coincident mate betwee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top face of Tutor1 and the top fac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 Tutor2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27" name="Picture 4" descr=""/>
          <p:cNvPicPr/>
          <p:nvPr/>
        </p:nvPicPr>
        <p:blipFill>
          <a:blip r:embed="rId1"/>
          <a:stretch/>
        </p:blipFill>
        <p:spPr>
          <a:xfrm>
            <a:off x="6095880" y="1066680"/>
            <a:ext cx="2351160" cy="23511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6" descr=""/>
          <p:cNvPicPr/>
          <p:nvPr/>
        </p:nvPicPr>
        <p:blipFill>
          <a:blip r:embed="rId2"/>
          <a:stretch/>
        </p:blipFill>
        <p:spPr>
          <a:xfrm>
            <a:off x="6248520" y="3657600"/>
            <a:ext cx="1874880" cy="20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tes and Degrees of Freedom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914040" y="1296720"/>
            <a:ext cx="37702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first mate removes all but two degrees of freedom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remaining degrees of freedom are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ovement along the edg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499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ion </a:t>
            </a: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around the edge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31" name="Picture 5" descr=""/>
          <p:cNvPicPr/>
          <p:nvPr/>
        </p:nvPicPr>
        <p:blipFill>
          <a:blip r:embed="rId1"/>
          <a:stretch/>
        </p:blipFill>
        <p:spPr>
          <a:xfrm>
            <a:off x="5168880" y="1297080"/>
            <a:ext cx="3116160" cy="2354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3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895320" cy="762120"/>
          </a:xfrm>
          <a:prstGeom prst="rect">
            <a:avLst/>
          </a:prstGeom>
          <a:ln w="0">
            <a:noFill/>
          </a:ln>
        </p:spPr>
      </p:pic>
      <p:sp>
        <p:nvSpPr>
          <p:cNvPr id="933" name="Rectangle 16"/>
          <p:cNvSpPr/>
          <p:nvPr/>
        </p:nvSpPr>
        <p:spPr>
          <a:xfrm>
            <a:off x="6351480" y="3048120"/>
            <a:ext cx="7632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tes and Degrees of Freedom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7720" y="1296720"/>
            <a:ext cx="80139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econd mate removes one more degree of freedo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remaining degree of freedom is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ion around the edg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36" name="Picture 5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3135600" cy="34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tes and Degrees of Freedom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1297080"/>
            <a:ext cx="7777440" cy="23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third mate removes last degre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 freedo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No remaining degrees of freedo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assembly is fully defin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39" name="Picture 4" descr=""/>
          <p:cNvPicPr/>
          <p:nvPr/>
        </p:nvPicPr>
        <p:blipFill>
          <a:blip r:embed="rId1"/>
          <a:stretch/>
        </p:blipFill>
        <p:spPr>
          <a:xfrm>
            <a:off x="5680080" y="1297080"/>
            <a:ext cx="2093760" cy="235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90720" y="26676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914040" y="1296720"/>
            <a:ext cx="59720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witchplat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requires two fastener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reate the fastener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reate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witchplat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-fastener assemb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42" name="Picture 4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1886040" cy="422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792468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837720" y="1297080"/>
            <a:ext cx="8013960" cy="23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witchplate-fastener assembly requires three mates to be fully defined. The three mates are:</a:t>
            </a:r>
            <a:br>
              <a:rPr sz="2400"/>
            </a:b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rst Mate: Concentric mat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between the cylindrical face of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astener and the cylindrical face of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witchplat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45" name="Picture 4" descr=""/>
          <p:cNvPicPr/>
          <p:nvPr/>
        </p:nvPicPr>
        <p:blipFill>
          <a:blip r:embed="rId1"/>
          <a:stretch/>
        </p:blipFill>
        <p:spPr>
          <a:xfrm>
            <a:off x="5257800" y="2133720"/>
            <a:ext cx="3579840" cy="26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80010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7720" y="1297080"/>
            <a:ext cx="392436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Mate: 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Coinciden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mate between the flat circular back face of the fastener and the flat front face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witchplat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48" name="Picture 4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3848040" cy="2835360"/>
          </a:xfrm>
          <a:prstGeom prst="rect">
            <a:avLst/>
          </a:prstGeom>
          <a:ln w="0">
            <a:noFill/>
          </a:ln>
        </p:spPr>
      </p:pic>
      <p:grpSp>
        <p:nvGrpSpPr>
          <p:cNvPr id="949" name="Group 11"/>
          <p:cNvGrpSpPr/>
          <p:nvPr/>
        </p:nvGrpSpPr>
        <p:grpSpPr>
          <a:xfrm>
            <a:off x="5018760" y="2108160"/>
            <a:ext cx="1839240" cy="1244520"/>
            <a:chOff x="5018760" y="2108160"/>
            <a:chExt cx="1839240" cy="1244520"/>
          </a:xfrm>
        </p:grpSpPr>
        <p:sp>
          <p:nvSpPr>
            <p:cNvPr id="950" name="Text Box 6"/>
            <p:cNvSpPr/>
            <p:nvPr/>
          </p:nvSpPr>
          <p:spPr>
            <a:xfrm>
              <a:off x="5018760" y="2108160"/>
              <a:ext cx="12970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Fac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1" name="Line 7"/>
            <p:cNvSpPr/>
            <p:nvPr/>
          </p:nvSpPr>
          <p:spPr>
            <a:xfrm>
              <a:off x="6400800" y="2286000"/>
              <a:ext cx="457200" cy="1522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2" name="Line 8"/>
            <p:cNvSpPr/>
            <p:nvPr/>
          </p:nvSpPr>
          <p:spPr>
            <a:xfrm flipH="1">
              <a:off x="5867280" y="2286000"/>
              <a:ext cx="533520" cy="10666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3" name="Line 9"/>
            <p:cNvSpPr/>
            <p:nvPr/>
          </p:nvSpPr>
          <p:spPr>
            <a:xfrm flipH="1">
              <a:off x="6019920" y="2286000"/>
              <a:ext cx="38088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807732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38433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Mate: 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Parallel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mate between the flat cut face of the fastener and the flat top face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witchplat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witchplate-fastener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assembly is fully defined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56" name="Picture 4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249440" cy="3595680"/>
          </a:xfrm>
          <a:prstGeom prst="rect">
            <a:avLst/>
          </a:prstGeom>
          <a:ln w="0">
            <a:noFill/>
          </a:ln>
        </p:spPr>
      </p:pic>
      <p:grpSp>
        <p:nvGrpSpPr>
          <p:cNvPr id="957" name="Group 12"/>
          <p:cNvGrpSpPr/>
          <p:nvPr/>
        </p:nvGrpSpPr>
        <p:grpSpPr>
          <a:xfrm>
            <a:off x="6294240" y="2308320"/>
            <a:ext cx="2104920" cy="2771280"/>
            <a:chOff x="6294240" y="2308320"/>
            <a:chExt cx="2104920" cy="2771280"/>
          </a:xfrm>
        </p:grpSpPr>
        <p:sp>
          <p:nvSpPr>
            <p:cNvPr id="958" name="Text Box 7"/>
            <p:cNvSpPr/>
            <p:nvPr/>
          </p:nvSpPr>
          <p:spPr>
            <a:xfrm>
              <a:off x="7102080" y="2308320"/>
              <a:ext cx="12970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Fac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9" name="Line 8"/>
            <p:cNvSpPr/>
            <p:nvPr/>
          </p:nvSpPr>
          <p:spPr>
            <a:xfrm flipH="1">
              <a:off x="6340680" y="2479320"/>
              <a:ext cx="668520" cy="50400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0" name="Line 9"/>
            <p:cNvSpPr/>
            <p:nvPr/>
          </p:nvSpPr>
          <p:spPr>
            <a:xfrm flipH="1">
              <a:off x="6294240" y="2479320"/>
              <a:ext cx="715320" cy="26002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1" name="Line 10"/>
            <p:cNvSpPr/>
            <p:nvPr/>
          </p:nvSpPr>
          <p:spPr>
            <a:xfrm flipH="1">
              <a:off x="7009560" y="2479320"/>
              <a:ext cx="37116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80010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837720" y="1296720"/>
            <a:ext cx="7148520" cy="36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-storage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assembly requires three mates to be fully defined. The three mates are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rst Mate: 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Coinciden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betwee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inside bottom fac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he storagebox 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n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bottom face of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64" name="Picture 4" descr=""/>
          <p:cNvPicPr/>
          <p:nvPr/>
        </p:nvPicPr>
        <p:blipFill>
          <a:blip r:embed="rId1"/>
          <a:stretch/>
        </p:blipFill>
        <p:spPr>
          <a:xfrm>
            <a:off x="4602240" y="1711440"/>
            <a:ext cx="4249800" cy="4033800"/>
          </a:xfrm>
          <a:prstGeom prst="rect">
            <a:avLst/>
          </a:prstGeom>
          <a:ln w="0">
            <a:noFill/>
          </a:ln>
        </p:spPr>
      </p:pic>
      <p:grpSp>
        <p:nvGrpSpPr>
          <p:cNvPr id="965" name="Group 11"/>
          <p:cNvGrpSpPr/>
          <p:nvPr/>
        </p:nvGrpSpPr>
        <p:grpSpPr>
          <a:xfrm>
            <a:off x="4339800" y="4648320"/>
            <a:ext cx="3660840" cy="609120"/>
            <a:chOff x="4339800" y="4648320"/>
            <a:chExt cx="3660840" cy="609120"/>
          </a:xfrm>
        </p:grpSpPr>
        <p:sp>
          <p:nvSpPr>
            <p:cNvPr id="966" name="Text Box 7"/>
            <p:cNvSpPr/>
            <p:nvPr/>
          </p:nvSpPr>
          <p:spPr>
            <a:xfrm>
              <a:off x="4339800" y="4898880"/>
              <a:ext cx="12970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Fac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7" name="Line 8"/>
            <p:cNvSpPr/>
            <p:nvPr/>
          </p:nvSpPr>
          <p:spPr>
            <a:xfrm flipV="1">
              <a:off x="5766840" y="4648320"/>
              <a:ext cx="850320" cy="37152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8" name="Line 9"/>
            <p:cNvSpPr/>
            <p:nvPr/>
          </p:nvSpPr>
          <p:spPr>
            <a:xfrm>
              <a:off x="5781240" y="5015520"/>
              <a:ext cx="2219400" cy="24192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9" name="Line 10"/>
            <p:cNvSpPr/>
            <p:nvPr/>
          </p:nvSpPr>
          <p:spPr>
            <a:xfrm flipH="1">
              <a:off x="5391360" y="5012280"/>
              <a:ext cx="3931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80010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Mate: 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Coinciden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mate betwee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inside back face of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toragebo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x and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back face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72" name="Picture 4" descr=""/>
          <p:cNvPicPr/>
          <p:nvPr/>
        </p:nvPicPr>
        <p:blipFill>
          <a:blip r:embed="rId1"/>
          <a:stretch/>
        </p:blipFill>
        <p:spPr>
          <a:xfrm>
            <a:off x="4419720" y="1295280"/>
            <a:ext cx="4483080" cy="3544920"/>
          </a:xfrm>
          <a:prstGeom prst="rect">
            <a:avLst/>
          </a:prstGeom>
          <a:ln w="0">
            <a:noFill/>
          </a:ln>
        </p:spPr>
      </p:pic>
      <p:grpSp>
        <p:nvGrpSpPr>
          <p:cNvPr id="973" name="Group 13"/>
          <p:cNvGrpSpPr/>
          <p:nvPr/>
        </p:nvGrpSpPr>
        <p:grpSpPr>
          <a:xfrm>
            <a:off x="4466520" y="2158920"/>
            <a:ext cx="4285440" cy="2564280"/>
            <a:chOff x="4466520" y="2158920"/>
            <a:chExt cx="4285440" cy="2564280"/>
          </a:xfrm>
        </p:grpSpPr>
        <p:sp>
          <p:nvSpPr>
            <p:cNvPr id="974" name="Text Box 7"/>
            <p:cNvSpPr/>
            <p:nvPr/>
          </p:nvSpPr>
          <p:spPr>
            <a:xfrm>
              <a:off x="4466520" y="4368960"/>
              <a:ext cx="12970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Fac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5" name="Line 8"/>
            <p:cNvSpPr/>
            <p:nvPr/>
          </p:nvSpPr>
          <p:spPr>
            <a:xfrm flipV="1">
              <a:off x="5856480" y="2920680"/>
              <a:ext cx="1128600" cy="16318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6" name="Line 9"/>
            <p:cNvSpPr/>
            <p:nvPr/>
          </p:nvSpPr>
          <p:spPr>
            <a:xfrm flipV="1">
              <a:off x="5870520" y="3682800"/>
              <a:ext cx="2881440" cy="86364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7" name="Line 10"/>
            <p:cNvSpPr/>
            <p:nvPr/>
          </p:nvSpPr>
          <p:spPr>
            <a:xfrm flipH="1">
              <a:off x="5492880" y="4541760"/>
              <a:ext cx="38088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8" name="Text Box 11"/>
            <p:cNvSpPr/>
            <p:nvPr/>
          </p:nvSpPr>
          <p:spPr>
            <a:xfrm>
              <a:off x="5151960" y="2158920"/>
              <a:ext cx="241560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Inside back face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Sketch for Cut Featur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914040" y="121932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ketch is composed of two curv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nvert Entities creates the outside cur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fset Entities creates the inside cur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ather than drawing the outlines by hand, they are “copied” from existing geometr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technique is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ast and easy– select the face and click the tool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ccurate – sketch entities are “cloned” directly from existing geometr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telligent – if the solid body changes shape, the sketch updates. Automatical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80010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80" name="Picture 4" descr=""/>
          <p:cNvPicPr/>
          <p:nvPr/>
        </p:nvPicPr>
        <p:blipFill>
          <a:blip r:embed="rId1"/>
          <a:stretch/>
        </p:blipFill>
        <p:spPr>
          <a:xfrm>
            <a:off x="4602240" y="1698480"/>
            <a:ext cx="4249800" cy="4059360"/>
          </a:xfrm>
          <a:prstGeom prst="rect">
            <a:avLst/>
          </a:prstGeom>
          <a:ln w="0">
            <a:noFill/>
          </a:ln>
        </p:spPr>
      </p:pic>
      <p:grpSp>
        <p:nvGrpSpPr>
          <p:cNvPr id="981" name="Group 13"/>
          <p:cNvGrpSpPr/>
          <p:nvPr/>
        </p:nvGrpSpPr>
        <p:grpSpPr>
          <a:xfrm>
            <a:off x="4187160" y="3505320"/>
            <a:ext cx="1832760" cy="1573200"/>
            <a:chOff x="4187160" y="3505320"/>
            <a:chExt cx="1832760" cy="1573200"/>
          </a:xfrm>
        </p:grpSpPr>
        <p:sp>
          <p:nvSpPr>
            <p:cNvPr id="982" name="Text Box 7"/>
            <p:cNvSpPr/>
            <p:nvPr/>
          </p:nvSpPr>
          <p:spPr>
            <a:xfrm>
              <a:off x="4187160" y="4724280"/>
              <a:ext cx="12970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Fac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3" name="Line 10"/>
            <p:cNvSpPr/>
            <p:nvPr/>
          </p:nvSpPr>
          <p:spPr>
            <a:xfrm flipH="1">
              <a:off x="5213520" y="4897440"/>
              <a:ext cx="38088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4" name="Line 11"/>
            <p:cNvSpPr/>
            <p:nvPr/>
          </p:nvSpPr>
          <p:spPr>
            <a:xfrm flipH="1" flipV="1">
              <a:off x="5105160" y="3505320"/>
              <a:ext cx="471240" cy="14032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5" name="Line 12"/>
            <p:cNvSpPr/>
            <p:nvPr/>
          </p:nvSpPr>
          <p:spPr>
            <a:xfrm flipV="1">
              <a:off x="5591160" y="3809880"/>
              <a:ext cx="428760" cy="109224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Mate: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stance mate between the inside left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ace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torage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an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left face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stance = 1c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Good job! Now,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ould you like to do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24 more times?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No!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9" dur="500" fill="hold"/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omponent Pattern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88" name="Picture 4" descr=""/>
          <p:cNvPicPr/>
          <p:nvPr/>
        </p:nvPicPr>
        <p:blipFill>
          <a:blip r:embed="rId1"/>
          <a:stretch/>
        </p:blipFill>
        <p:spPr>
          <a:xfrm>
            <a:off x="5156280" y="1438200"/>
            <a:ext cx="3695760" cy="3127320"/>
          </a:xfrm>
          <a:prstGeom prst="rect">
            <a:avLst/>
          </a:prstGeom>
          <a:ln w="0">
            <a:noFill/>
          </a:ln>
        </p:spPr>
      </p:pic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837720" y="1297080"/>
            <a:ext cx="769932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 Component pattern is  a pattern of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mponents in an assemb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Component patter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pies the See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mpon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eed Component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 this example is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eliminates the work of adding and mating each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individual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9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9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reating a Linear Component Pattern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5943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Assembly &gt; Linear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Component Pattern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     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Select the </a:t>
            </a:r>
            <a:r>
              <a:rPr b="0" i="1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as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Components to Pattern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Select the front edge of the </a:t>
            </a:r>
            <a:br>
              <a:rPr sz="2400"/>
            </a:br>
            <a:r>
              <a:rPr b="0" i="1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storagebox 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for 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Pattern Direction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Spacing = 1cm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Instances = 25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Click OK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92" name="Picture 11" descr="LinearPatternPM"/>
          <p:cNvPicPr/>
          <p:nvPr/>
        </p:nvPicPr>
        <p:blipFill>
          <a:blip r:embed="rId1"/>
          <a:stretch/>
        </p:blipFill>
        <p:spPr>
          <a:xfrm>
            <a:off x="6324480" y="1371600"/>
            <a:ext cx="1828800" cy="377208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5" descr=""/>
          <p:cNvPicPr/>
          <p:nvPr/>
        </p:nvPicPr>
        <p:blipFill>
          <a:blip r:embed="rId2"/>
          <a:stretch/>
        </p:blipFill>
        <p:spPr>
          <a:xfrm>
            <a:off x="3886200" y="1676520"/>
            <a:ext cx="343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9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9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9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9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ore to Explore: The Hole Wizard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01240" y="1296720"/>
            <a:ext cx="55832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hat determines the size of the hole?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ize of the fastener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desired amount of clearance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800280" indent="-343080">
              <a:spcBef>
                <a:spcPts val="20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b575f"/>
                </a:solidFill>
                <a:latin typeface="Arial Narrow"/>
              </a:rPr>
              <a:t>Normal</a:t>
            </a:r>
            <a:endParaRPr b="0" lang="en-US" sz="2200" spc="-1" strike="noStrike">
              <a:solidFill>
                <a:srgbClr val="4b575f"/>
              </a:solidFill>
              <a:latin typeface="Arial Narrow"/>
            </a:endParaRPr>
          </a:p>
          <a:p>
            <a:pPr lvl="3" marL="800280" indent="-343080">
              <a:spcBef>
                <a:spcPts val="20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b575f"/>
                </a:solidFill>
                <a:latin typeface="Arial Narrow"/>
              </a:rPr>
              <a:t>Close</a:t>
            </a:r>
            <a:endParaRPr b="0" lang="en-US" sz="2200" spc="-1" strike="noStrike">
              <a:solidFill>
                <a:srgbClr val="4b575f"/>
              </a:solidFill>
              <a:latin typeface="Arial Narrow"/>
            </a:endParaRPr>
          </a:p>
          <a:p>
            <a:pPr lvl="3" marL="800280" indent="-343080">
              <a:spcBef>
                <a:spcPts val="20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b575f"/>
                </a:solidFill>
                <a:latin typeface="Arial Narrow"/>
              </a:rPr>
              <a:t>Loose</a:t>
            </a:r>
            <a:endParaRPr b="0" lang="en-US" sz="22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96" name="Picture 10" descr="hol_wiz"/>
          <p:cNvPicPr/>
          <p:nvPr/>
        </p:nvPicPr>
        <p:blipFill>
          <a:blip r:embed="rId1"/>
          <a:stretch/>
        </p:blipFill>
        <p:spPr>
          <a:xfrm>
            <a:off x="5943600" y="1219320"/>
            <a:ext cx="1828800" cy="51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onvert Entitie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pies one or more curves into the active sketch by projecting them onto the sketch plan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urves can be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dges of faces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ntities in other sketches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asy and fas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lect the face or cur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he Convert Entities       tool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60" name="Picture 6" descr="icon_convert_entities"/>
          <p:cNvPicPr/>
          <p:nvPr/>
        </p:nvPicPr>
        <p:blipFill>
          <a:blip r:embed="rId1"/>
          <a:stretch/>
        </p:blipFill>
        <p:spPr>
          <a:xfrm>
            <a:off x="4648320" y="3886200"/>
            <a:ext cx="284040" cy="28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6" descr="PICT0032"/>
          <p:cNvPicPr/>
          <p:nvPr/>
        </p:nvPicPr>
        <p:blipFill>
          <a:blip r:embed="rId1"/>
          <a:stretch/>
        </p:blipFill>
        <p:spPr>
          <a:xfrm>
            <a:off x="5638680" y="1370160"/>
            <a:ext cx="3254400" cy="3844800"/>
          </a:xfrm>
          <a:prstGeom prst="rect">
            <a:avLst/>
          </a:prstGeom>
          <a:ln w="0">
            <a:noFill/>
          </a:ln>
        </p:spPr>
      </p:pic>
      <p:sp>
        <p:nvSpPr>
          <p:cNvPr id="862" name="Rectangle 11"/>
          <p:cNvSpPr/>
          <p:nvPr/>
        </p:nvSpPr>
        <p:spPr>
          <a:xfrm>
            <a:off x="5791320" y="3200400"/>
            <a:ext cx="228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Create the Outside Curve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lect the sketch plan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pen a new sketch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lect the face or curves you want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o convert. In this case, select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ac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Sketc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&gt;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Convert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ntities      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65" name="Picture 8" descr="icon_convert_entities"/>
          <p:cNvPicPr/>
          <p:nvPr/>
        </p:nvPicPr>
        <p:blipFill>
          <a:blip r:embed="rId2"/>
          <a:stretch/>
        </p:blipFill>
        <p:spPr>
          <a:xfrm>
            <a:off x="2362320" y="335268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10" descr="FACE"/>
          <p:cNvPicPr/>
          <p:nvPr/>
        </p:nvPicPr>
        <p:blipFill>
          <a:blip r:embed="rId3"/>
          <a:stretch/>
        </p:blipFill>
        <p:spPr>
          <a:xfrm>
            <a:off x="5715000" y="3200400"/>
            <a:ext cx="32400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reating the Outside Curve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utside edges of face are copied into the active sketch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ketch is fully defined – no dimensions need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69" name="Picture 4" descr=""/>
          <p:cNvPicPr/>
          <p:nvPr/>
        </p:nvPicPr>
        <p:blipFill>
          <a:blip r:embed="rId1"/>
          <a:stretch/>
        </p:blipFill>
        <p:spPr>
          <a:xfrm>
            <a:off x="4689360" y="2895480"/>
            <a:ext cx="2735280" cy="32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400" y="190080"/>
            <a:ext cx="687384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Create the Inside Curve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7067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Sketc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&gt;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Offset Entiti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    .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PropertyManager ope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nter the distance value of 2m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lect one of the converte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ntiti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elect chain option causes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offset to go all the way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round the contour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72" name="Picture 10" descr="icon_offset_entities"/>
          <p:cNvPicPr/>
          <p:nvPr/>
        </p:nvPicPr>
        <p:blipFill>
          <a:blip r:embed="rId1"/>
          <a:stretch/>
        </p:blipFill>
        <p:spPr>
          <a:xfrm>
            <a:off x="4745160" y="137160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13" descr="OffsetEntities"/>
          <p:cNvPicPr/>
          <p:nvPr/>
        </p:nvPicPr>
        <p:blipFill>
          <a:blip r:embed="rId2"/>
          <a:stretch/>
        </p:blipFill>
        <p:spPr>
          <a:xfrm>
            <a:off x="6477120" y="1523880"/>
            <a:ext cx="1838160" cy="28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reating the Inside Curve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58676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ystem generates a preview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 the resulting offse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 small         arrow  points towar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cursor. If you move your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ursor to the other side of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line        , the arrow changes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rection. This indicates on which side the offset will be creat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ove the cursor so it is inside the contour. Click the left mouse button to create the offse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76" name="Picture 4" descr=""/>
          <p:cNvPicPr/>
          <p:nvPr/>
        </p:nvPicPr>
        <p:blipFill>
          <a:blip r:embed="rId1"/>
          <a:stretch/>
        </p:blipFill>
        <p:spPr>
          <a:xfrm>
            <a:off x="6629400" y="1295280"/>
            <a:ext cx="1986120" cy="235440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6" descr=""/>
          <p:cNvPicPr/>
          <p:nvPr/>
        </p:nvPicPr>
        <p:blipFill>
          <a:blip r:embed="rId2"/>
          <a:stretch/>
        </p:blipFill>
        <p:spPr>
          <a:xfrm>
            <a:off x="2492280" y="1981080"/>
            <a:ext cx="403200" cy="230400"/>
          </a:xfrm>
          <a:prstGeom prst="rect">
            <a:avLst/>
          </a:prstGeom>
          <a:ln w="28440">
            <a:solidFill>
              <a:srgbClr val="ebebec"/>
            </a:solidFill>
            <a:miter/>
          </a:ln>
        </p:spPr>
      </p:pic>
      <p:pic>
        <p:nvPicPr>
          <p:cNvPr id="878" name="Picture 8" descr=""/>
          <p:cNvPicPr/>
          <p:nvPr/>
        </p:nvPicPr>
        <p:blipFill>
          <a:blip r:embed="rId3"/>
          <a:stretch/>
        </p:blipFill>
        <p:spPr>
          <a:xfrm>
            <a:off x="2057400" y="2895480"/>
            <a:ext cx="390600" cy="247680"/>
          </a:xfrm>
          <a:prstGeom prst="rect">
            <a:avLst/>
          </a:prstGeom>
          <a:ln w="28440">
            <a:solidFill>
              <a:srgbClr val="ebebec"/>
            </a:solidFill>
            <a:miter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reating the Inside Curve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43149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resulting sketch is fully defin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re is only one dimension.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t controls the offset distanc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81" name="Picture 6" descr=""/>
          <p:cNvPicPr/>
          <p:nvPr/>
        </p:nvPicPr>
        <p:blipFill>
          <a:blip r:embed="rId1"/>
          <a:stretch/>
        </p:blipFill>
        <p:spPr>
          <a:xfrm>
            <a:off x="5403960" y="1724040"/>
            <a:ext cx="2646360" cy="400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20:12:14Z</dcterms:created>
  <dc:creator>jmatsumoto</dc:creator>
  <dc:description/>
  <dc:language>en-US</dc:language>
  <cp:lastModifiedBy>ECES21</cp:lastModifiedBy>
  <dcterms:modified xsi:type="dcterms:W3CDTF">2014-01-13T20:29:58Z</dcterms:modified>
  <cp:revision>74</cp:revision>
  <dc:subject/>
  <dc:title>Presentation Title</dc:title>
</cp:coreProperties>
</file>