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FBE1-736F-41EC-AC7F-A5D0CB5F8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F9D7C-018E-4CF0-960F-C91FC6EEAFC5}" type="slidenum">
              <a:rPr b="0" lang="en-US" sz="13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0E15-7884-4A61-AA10-27F8B376C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AA16-C94D-4E1A-AD87-6040A98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8B55-8B5C-4A15-BE5A-4EDD8961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77FF-FD15-4795-BA5A-782E052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CA4D-BF43-4372-9F44-3299D930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B137-9812-47FE-A4C2-EBB35595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F3BE-CC11-441D-BABF-DD55FBE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9955-1F4C-4BB0-939D-33312C9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A341-E55C-4031-9459-EBFE9B4E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D1B7-AD42-4E2D-9B62-5C75E209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ED8A-146F-49EA-A6D8-C4599B0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DEE4-4A9F-44FC-AB6D-317992D2F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91A9-F4BF-4DD1-BE67-F9EDE82437A7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126-94A9-458A-8A69-482415F07AF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C403-DB6C-4584-A6F5-80058E1CCF1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580-CCC4-417C-9B42-28B4E17AB31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7F59-7E2F-4B44-A08B-BBFD37608A6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C887-CE4E-49E6-A5EA-CF5015D23C6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EE10-5886-4E2C-8A04-EE4BA209F97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FACB-2794-4616-A86A-191C4376C17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BD2-F1EF-491D-BB6B-9A8143EBA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DCA-CA5F-4F63-BB03-939488A0124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D13-5D35-4B60-A4F6-225E98A80F1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543-8202-4D97-9E0E-7D283043128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6481-3F5F-4DAF-85B0-75274C945F20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FE8E-A5E3-4F1A-942A-EAF2FBAABDE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F81D-81C6-4C68-AF3A-F78A7B2B789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B27E-22F5-4F95-9A6E-8E2AA89D5F4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4C5-AC87-4515-A604-37BEBD12D5C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5EE4-6C07-4273-A8B9-4287A056EEB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37DE-F2C9-4E23-BEEA-9A17663CCF7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6640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4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Assembly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4246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utor assembly is comprised of two part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(created in Lesson 2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(created in this lesson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764320" y="3884760"/>
            <a:ext cx="2135160" cy="2354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2"/>
          <a:stretch/>
        </p:blipFill>
        <p:spPr>
          <a:xfrm>
            <a:off x="4368960" y="1351080"/>
            <a:ext cx="2066760" cy="21841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133360" cy="2438640"/>
          </a:xfrm>
          <a:prstGeom prst="rect">
            <a:avLst/>
          </a:prstGeom>
          <a:ln w="0">
            <a:noFill/>
          </a:ln>
        </p:spPr>
      </p:pic>
      <p:sp>
        <p:nvSpPr>
          <p:cNvPr id="887" name="Line 10"/>
          <p:cNvSpPr/>
          <p:nvPr/>
        </p:nvSpPr>
        <p:spPr>
          <a:xfrm>
            <a:off x="5715000" y="3657600"/>
            <a:ext cx="380880" cy="83808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7358040" y="3705120"/>
            <a:ext cx="533520" cy="68580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380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contains two or more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n assembly, parts are referred to as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s are relationships that align and fit components together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and their assembly are directly related through file link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components affect the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assembly affect the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em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range the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window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3" name="Picture 19" descr="SWAssem"/>
          <p:cNvPicPr/>
          <p:nvPr/>
        </p:nvPicPr>
        <p:blipFill>
          <a:blip r:embed="rId1"/>
          <a:stretch/>
        </p:blipFill>
        <p:spPr>
          <a:xfrm>
            <a:off x="2743200" y="1371600"/>
            <a:ext cx="610560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3" descr="SWAssem2"/>
          <p:cNvPicPr/>
          <p:nvPr/>
        </p:nvPicPr>
        <p:blipFill>
          <a:blip r:embed="rId1"/>
          <a:stretch/>
        </p:blipFill>
        <p:spPr>
          <a:xfrm>
            <a:off x="2666880" y="1371600"/>
            <a:ext cx="6115320" cy="487512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67975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2389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ag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op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art icon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o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ave the assembly as Tuto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5410080" y="4572000"/>
            <a:ext cx="533520" cy="22860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4952880" y="2438280"/>
            <a:ext cx="990720" cy="60984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component placed in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is fix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fixed component cannot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you want to move a fix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, you mus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at (unfix) it firs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is added to the FeatureManager design tree with the symbol (f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f) indicates a fix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8" descr="AssemFM"/>
          <p:cNvPicPr/>
          <p:nvPr/>
        </p:nvPicPr>
        <p:blipFill>
          <a:blip r:embed="rId1"/>
          <a:stretch/>
        </p:blipFill>
        <p:spPr>
          <a:xfrm>
            <a:off x="6400800" y="1143000"/>
            <a:ext cx="1838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added to the FeatureManager design tree with the symbol (-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-) indicates an underdefin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free to move and rot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4" name="Picture 7" descr="AssemFM"/>
          <p:cNvPicPr/>
          <p:nvPr/>
        </p:nvPicPr>
        <p:blipFill>
          <a:blip r:embed="rId1"/>
          <a:stretch/>
        </p:blipFill>
        <p:spPr>
          <a:xfrm>
            <a:off x="6553080" y="1371600"/>
            <a:ext cx="1838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14400" y="1296720"/>
            <a:ext cx="565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       – translates (moves) the selected component according to 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7" name="Picture 8" descr="icon_move_component"/>
          <p:cNvPicPr/>
          <p:nvPr/>
        </p:nvPicPr>
        <p:blipFill>
          <a:blip r:embed="rId1"/>
          <a:stretch/>
        </p:blipFill>
        <p:spPr>
          <a:xfrm>
            <a:off x="342900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Mov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7720" y="1296720"/>
            <a:ext cx="59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        – rotates the selected component according 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1" name="Picture 8" descr="icon_rotate_component"/>
          <p:cNvPicPr/>
          <p:nvPr/>
        </p:nvPicPr>
        <p:blipFill>
          <a:blip r:embed="rId1"/>
          <a:stretch/>
        </p:blipFill>
        <p:spPr>
          <a:xfrm>
            <a:off x="350532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" descr="Rotat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grees of Freedom: There are Si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y describe how an objec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ranslation (movement) along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4602240" y="1936800"/>
            <a:ext cx="4249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52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 relationships align and fit together 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fully define it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the top back edge 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the edge of the lip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18" name="Group 18"/>
          <p:cNvGrpSpPr/>
          <p:nvPr/>
        </p:nvGrpSpPr>
        <p:grpSpPr>
          <a:xfrm>
            <a:off x="5176440" y="3962520"/>
            <a:ext cx="3758040" cy="2685960"/>
            <a:chOff x="5176440" y="3962520"/>
            <a:chExt cx="3758040" cy="2685960"/>
          </a:xfrm>
        </p:grpSpPr>
        <p:pic>
          <p:nvPicPr>
            <p:cNvPr id="919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306720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13"/>
            <p:cNvSpPr/>
            <p:nvPr/>
          </p:nvSpPr>
          <p:spPr>
            <a:xfrm>
              <a:off x="5176440" y="556272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1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6395760" y="617220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2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Text Box 15"/>
            <p:cNvSpPr/>
            <p:nvPr/>
          </p:nvSpPr>
          <p:spPr>
            <a:xfrm>
              <a:off x="7386840" y="3962520"/>
              <a:ext cx="1336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Edg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Line 16"/>
            <p:cNvSpPr/>
            <p:nvPr/>
          </p:nvSpPr>
          <p:spPr>
            <a:xfrm flipH="1">
              <a:off x="6781320" y="4114800"/>
              <a:ext cx="838440" cy="304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7"/>
            <p:cNvSpPr/>
            <p:nvPr/>
          </p:nvSpPr>
          <p:spPr>
            <a:xfrm>
              <a:off x="7620120" y="4114800"/>
              <a:ext cx="152280" cy="9907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10800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eatures Used to Build Tutor2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122400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>
            <a:off x="562752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3"/>
          <a:stretch/>
        </p:blipFill>
        <p:spPr>
          <a:xfrm>
            <a:off x="1368360" y="3803760"/>
            <a:ext cx="1914480" cy="23558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"/>
          <p:cNvPicPr/>
          <p:nvPr/>
        </p:nvPicPr>
        <p:blipFill>
          <a:blip r:embed="rId4"/>
          <a:stretch/>
        </p:blipFill>
        <p:spPr>
          <a:xfrm>
            <a:off x="5638680" y="4305240"/>
            <a:ext cx="2075040" cy="255276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2"/>
          <p:cNvSpPr/>
          <p:nvPr/>
        </p:nvSpPr>
        <p:spPr>
          <a:xfrm>
            <a:off x="1526760" y="114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1.Base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173280" y="1143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2.Fille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982160" y="4038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3.Shel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5945040" y="3962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4.Cut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60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ight face of Tutor1 and the right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op face of Tutor1 and the top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351160" cy="2351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8748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3770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mate removes all but two degrees of freedom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s of freedom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ment along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round the edg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1" name="Picture 5" descr=""/>
          <p:cNvPicPr/>
          <p:nvPr/>
        </p:nvPicPr>
        <p:blipFill>
          <a:blip r:embed="rId1"/>
          <a:stretch/>
        </p:blipFill>
        <p:spPr>
          <a:xfrm>
            <a:off x="5168880" y="1297080"/>
            <a:ext cx="3116160" cy="2354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16"/>
          <p:cNvSpPr/>
          <p:nvPr/>
        </p:nvSpPr>
        <p:spPr>
          <a:xfrm>
            <a:off x="6351480" y="30481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8013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cond mate removes one more degree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 of freedom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35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297080"/>
            <a:ext cx="777744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rd mate removes last degre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 remaining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assembly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680080" y="1297080"/>
            <a:ext cx="2093760" cy="23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597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quires two fasten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fasten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-fastener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886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801396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-fastener assembly requires three mates to be fully defined. The three mates are:</a:t>
            </a:r>
            <a:br>
              <a:rPr sz="2400"/>
            </a:b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Concentric mat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etween the cylindrical fac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ener and the cylindrical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798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3924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ircular back face of the fastener and the flat fron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4804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1"/>
          <p:cNvGrpSpPr/>
          <p:nvPr/>
        </p:nvGrpSpPr>
        <p:grpSpPr>
          <a:xfrm>
            <a:off x="5018760" y="2108160"/>
            <a:ext cx="1839240" cy="1244520"/>
            <a:chOff x="5018760" y="2108160"/>
            <a:chExt cx="1839240" cy="1244520"/>
          </a:xfrm>
        </p:grpSpPr>
        <p:sp>
          <p:nvSpPr>
            <p:cNvPr id="950" name="Text Box 6"/>
            <p:cNvSpPr/>
            <p:nvPr/>
          </p:nvSpPr>
          <p:spPr>
            <a:xfrm>
              <a:off x="5018760" y="21081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6400800" y="2286000"/>
              <a:ext cx="457200" cy="152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 flipH="1">
              <a:off x="5867280" y="2286000"/>
              <a:ext cx="533520" cy="10666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 flipH="1">
              <a:off x="6019920" y="228600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843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Paralle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ut face of the fastener and the flat top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-fasten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is fully define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4944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12"/>
          <p:cNvGrpSpPr/>
          <p:nvPr/>
        </p:nvGrpSpPr>
        <p:grpSpPr>
          <a:xfrm>
            <a:off x="6294240" y="2308320"/>
            <a:ext cx="2104920" cy="2771280"/>
            <a:chOff x="6294240" y="2308320"/>
            <a:chExt cx="2104920" cy="2771280"/>
          </a:xfrm>
        </p:grpSpPr>
        <p:sp>
          <p:nvSpPr>
            <p:cNvPr id="958" name="Text Box 7"/>
            <p:cNvSpPr/>
            <p:nvPr/>
          </p:nvSpPr>
          <p:spPr>
            <a:xfrm>
              <a:off x="7102080" y="230832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6340680" y="2479320"/>
              <a:ext cx="668520" cy="50400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H="1">
              <a:off x="6294240" y="2479320"/>
              <a:ext cx="715320" cy="2600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 flipH="1">
              <a:off x="7009560" y="2479320"/>
              <a:ext cx="371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714852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-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be fully defined. 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ottom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he storagebox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bottom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4" name="Picture 4" descr=""/>
          <p:cNvPicPr/>
          <p:nvPr/>
        </p:nvPicPr>
        <p:blipFill>
          <a:blip r:embed="rId1"/>
          <a:stretch/>
        </p:blipFill>
        <p:spPr>
          <a:xfrm>
            <a:off x="4602240" y="1711440"/>
            <a:ext cx="4249800" cy="403380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1"/>
          <p:cNvGrpSpPr/>
          <p:nvPr/>
        </p:nvGrpSpPr>
        <p:grpSpPr>
          <a:xfrm>
            <a:off x="4339800" y="4648320"/>
            <a:ext cx="3660840" cy="609120"/>
            <a:chOff x="4339800" y="4648320"/>
            <a:chExt cx="3660840" cy="609120"/>
          </a:xfrm>
        </p:grpSpPr>
        <p:sp>
          <p:nvSpPr>
            <p:cNvPr id="966" name="Text Box 7"/>
            <p:cNvSpPr/>
            <p:nvPr/>
          </p:nvSpPr>
          <p:spPr>
            <a:xfrm>
              <a:off x="4339800" y="48988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 flipV="1">
              <a:off x="5766840" y="4648320"/>
              <a:ext cx="850320" cy="3715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5781240" y="5015520"/>
              <a:ext cx="2219400" cy="241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H="1">
              <a:off x="5391360" y="5012280"/>
              <a:ext cx="3931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ack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x and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ck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83080" cy="35449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13"/>
          <p:cNvGrpSpPr/>
          <p:nvPr/>
        </p:nvGrpSpPr>
        <p:grpSpPr>
          <a:xfrm>
            <a:off x="4466520" y="2158920"/>
            <a:ext cx="4285440" cy="2564280"/>
            <a:chOff x="4466520" y="2158920"/>
            <a:chExt cx="4285440" cy="2564280"/>
          </a:xfrm>
        </p:grpSpPr>
        <p:sp>
          <p:nvSpPr>
            <p:cNvPr id="974" name="Text Box 7"/>
            <p:cNvSpPr/>
            <p:nvPr/>
          </p:nvSpPr>
          <p:spPr>
            <a:xfrm>
              <a:off x="4466520" y="43689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8"/>
            <p:cNvSpPr/>
            <p:nvPr/>
          </p:nvSpPr>
          <p:spPr>
            <a:xfrm flipV="1">
              <a:off x="5856480" y="2920680"/>
              <a:ext cx="1128600" cy="16318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 flipV="1">
              <a:off x="5870520" y="3682800"/>
              <a:ext cx="2881440" cy="8636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Line 10"/>
            <p:cNvSpPr/>
            <p:nvPr/>
          </p:nvSpPr>
          <p:spPr>
            <a:xfrm flipH="1">
              <a:off x="5492880" y="454176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151960" y="2158920"/>
              <a:ext cx="2415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Inside back face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Sketch for Cut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1404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composed of two curv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vert Entities creates the out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fset Entities creates the in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ther than drawing the outlines by hand, they are “copied”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 and easy– select the face and click the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ccurate – sketch entities are “cloned” directly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elligent – if the solid body changes shape, the sketch updates. Automatic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4602240" y="1698480"/>
            <a:ext cx="424980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3"/>
          <p:cNvGrpSpPr/>
          <p:nvPr/>
        </p:nvGrpSpPr>
        <p:grpSpPr>
          <a:xfrm>
            <a:off x="4187160" y="3505320"/>
            <a:ext cx="1832760" cy="1573200"/>
            <a:chOff x="4187160" y="3505320"/>
            <a:chExt cx="1832760" cy="1573200"/>
          </a:xfrm>
        </p:grpSpPr>
        <p:sp>
          <p:nvSpPr>
            <p:cNvPr id="982" name="Text Box 7"/>
            <p:cNvSpPr/>
            <p:nvPr/>
          </p:nvSpPr>
          <p:spPr>
            <a:xfrm>
              <a:off x="4187160" y="47242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 flipH="1">
              <a:off x="5213520" y="489744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 flipH="1" flipV="1">
              <a:off x="5105160" y="3505320"/>
              <a:ext cx="471240" cy="1403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5591160" y="3809880"/>
              <a:ext cx="428760" cy="10922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mate between the inside lef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lef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= 1c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ood job! Now,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ould you like to d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24 more times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!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onent Patter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1"/>
          <a:stretch/>
        </p:blipFill>
        <p:spPr>
          <a:xfrm>
            <a:off x="5156280" y="1438200"/>
            <a:ext cx="3695760" cy="312732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7699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Component pattern is  a pattern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omponent patter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the Se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ed Compon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this example is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eliminates the work of adding and mating each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a Linear Component Pattern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Assembly &gt; Linear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as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s to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front edge of the </a:t>
            </a:r>
            <a:br>
              <a:rPr sz="2400"/>
            </a:b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storagebox 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for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Pattern Directio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pacing = 1cm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Instances = 25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2" name="Picture 11" descr="LinearPatternPM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37720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43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ore to Explore: The Hole Wizar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5583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determines the size of the hole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ize of the fastene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sired amount of clearanc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Normal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Cl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Lo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6" name="Picture 10" descr="hol_wiz"/>
          <p:cNvPicPr/>
          <p:nvPr/>
        </p:nvPicPr>
        <p:blipFill>
          <a:blip r:embed="rId1"/>
          <a:stretch/>
        </p:blipFill>
        <p:spPr>
          <a:xfrm>
            <a:off x="5943600" y="1219320"/>
            <a:ext cx="18288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nvert Entit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one or more curves into the active sketch by projecting them onto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ves can b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dges of fac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in other sketch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sy and f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he Convert Entities      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0" name="Picture 6" descr="icon_convert_entities"/>
          <p:cNvPicPr/>
          <p:nvPr/>
        </p:nvPicPr>
        <p:blipFill>
          <a:blip r:embed="rId1"/>
          <a:stretch/>
        </p:blipFill>
        <p:spPr>
          <a:xfrm>
            <a:off x="4648320" y="388620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PICT0032"/>
          <p:cNvPicPr/>
          <p:nvPr/>
        </p:nvPicPr>
        <p:blipFill>
          <a:blip r:embed="rId1"/>
          <a:stretch/>
        </p:blipFill>
        <p:spPr>
          <a:xfrm>
            <a:off x="5638680" y="1370160"/>
            <a:ext cx="3254400" cy="38448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5791320" y="32004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s you wa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convert. In this case, selec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nvert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5" name="Picture 8" descr="icon_convert_entities"/>
          <p:cNvPicPr/>
          <p:nvPr/>
        </p:nvPicPr>
        <p:blipFill>
          <a:blip r:embed="rId2"/>
          <a:stretch/>
        </p:blipFill>
        <p:spPr>
          <a:xfrm>
            <a:off x="2362320" y="33526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FACE"/>
          <p:cNvPicPr/>
          <p:nvPr/>
        </p:nvPicPr>
        <p:blipFill>
          <a:blip r:embed="rId3"/>
          <a:stretch/>
        </p:blipFill>
        <p:spPr>
          <a:xfrm>
            <a:off x="5715000" y="3200400"/>
            <a:ext cx="3240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utside edges of face are copied into the active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fully defined – no dimensions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4689360" y="2895480"/>
            <a:ext cx="273528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067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Offset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    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PropertyManager ope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er the distance value of 2m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one of the convert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lect chain option caus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offset to go all the wa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ound the contou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2" name="Picture 10" descr="icon_offset_entities"/>
          <p:cNvPicPr/>
          <p:nvPr/>
        </p:nvPicPr>
        <p:blipFill>
          <a:blip r:embed="rId1"/>
          <a:stretch/>
        </p:blipFill>
        <p:spPr>
          <a:xfrm>
            <a:off x="4745160" y="13716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3" descr="OffsetEntities"/>
          <p:cNvPicPr/>
          <p:nvPr/>
        </p:nvPicPr>
        <p:blipFill>
          <a:blip r:embed="rId2"/>
          <a:stretch/>
        </p:blipFill>
        <p:spPr>
          <a:xfrm>
            <a:off x="6477120" y="1523880"/>
            <a:ext cx="18381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5867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stem generates a preview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he resulting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small         arrow  points towar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ursor. If you move you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sor to the other sid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line        , the arrow chang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rection. This indicates on which side the offset will be cre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the cursor so it is inside the contour. Click the left mouse button to create the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986120" cy="235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2"/>
          <a:stretch/>
        </p:blipFill>
        <p:spPr>
          <a:xfrm>
            <a:off x="2492280" y="1981080"/>
            <a:ext cx="403200" cy="23040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  <p:pic>
        <p:nvPicPr>
          <p:cNvPr id="878" name="Picture 8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390600" cy="24768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31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sulting sketch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e is only one dimension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controls the offset d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1" name="Picture 6" descr=""/>
          <p:cNvPicPr/>
          <p:nvPr/>
        </p:nvPicPr>
        <p:blipFill>
          <a:blip r:embed="rId1"/>
          <a:stretch/>
        </p:blipFill>
        <p:spPr>
          <a:xfrm>
            <a:off x="5403960" y="1724040"/>
            <a:ext cx="264636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4-01-13T20:29:58Z</dcterms:modified>
  <cp:revision>74</cp:revision>
  <dc:subject/>
  <dc:title>Presentation Title</dc:title>
</cp:coreProperties>
</file>