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52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9.png" ContentType="image/png"/>
  <Override PartName="/ppt/media/image1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5E4D4-2D6A-4E7F-8FA9-3EAD5EF85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2B84F-F542-4476-8795-7890E80BD4E6}" type="slidenum">
              <a:rPr b="0" lang="en-US" sz="13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5977-054E-4A31-A70D-F954611C2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118A-9911-4046-BD50-F8E8613C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4676-8D4C-4159-97E9-1F4C4B6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C8D6-3132-4960-B065-46FF5B36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9875-BF1A-4471-9726-25A7B9EB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AA46-6451-45C1-A408-17226675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0B46-9A13-433A-A76F-C56D9426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AADA-53DF-40DD-BC09-2243F0E6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0897-2C27-49B1-A900-D0A3E70A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80A9-E2F2-4A3F-BF82-8E425BD2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F5ED-AA72-45AB-B35D-71B07BFB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2F68-F69E-4A7F-895F-8BFEAC9314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204B-A9C4-4389-B11F-67B900238F7D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535D-F991-4FA1-BBC8-CE8434B7BDC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DA06-EAE3-4927-BCFF-6133624F60B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B784-B311-413F-B9C2-3FAA3AC2710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9841-0956-4E78-BA4D-4DB2B5D11A2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6CAB-B9CA-4CB0-B903-626552F7F43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88DD-127F-492F-ADF3-309B16FB035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7C69-1267-47DF-98D3-67555CF00A0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E935-006F-467B-A4AB-0F9AB5024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F377-7D6A-4FE7-A6C0-3C1F7A69FBE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4346-E35E-4E10-BCBE-EBDD669B09D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2323-6B91-4664-A8C4-B2E4DE7BEB1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3FD-EDF4-4843-8B60-01B37C97DABF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9E4A-65AD-49B2-B8BB-5ECEDA0B61C8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E730-A3FE-4859-850F-0FE769DA00E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770D-7ED9-4CAC-A4F6-DB2CD075EA7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D9D-EB3D-49F8-ACC1-65E45B980EE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09C1-2305-4CE1-BBD8-D24D1D620D2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2182-6525-4729-B898-799BD6BA76A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0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6640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4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362320" y="2437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Assembly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4246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utor assembly is comprised of two part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(created in Lesson 2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(created in this lesson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4" name="Picture 4" descr=""/>
          <p:cNvPicPr/>
          <p:nvPr/>
        </p:nvPicPr>
        <p:blipFill>
          <a:blip r:embed="rId1"/>
          <a:stretch/>
        </p:blipFill>
        <p:spPr>
          <a:xfrm>
            <a:off x="5764320" y="3884760"/>
            <a:ext cx="2135160" cy="2354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"/>
          <p:cNvPicPr/>
          <p:nvPr/>
        </p:nvPicPr>
        <p:blipFill>
          <a:blip r:embed="rId2"/>
          <a:stretch/>
        </p:blipFill>
        <p:spPr>
          <a:xfrm>
            <a:off x="4368960" y="1351080"/>
            <a:ext cx="2066760" cy="21841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133360" cy="2438640"/>
          </a:xfrm>
          <a:prstGeom prst="rect">
            <a:avLst/>
          </a:prstGeom>
          <a:ln w="0">
            <a:noFill/>
          </a:ln>
        </p:spPr>
      </p:pic>
      <p:sp>
        <p:nvSpPr>
          <p:cNvPr id="887" name="Line 10"/>
          <p:cNvSpPr/>
          <p:nvPr/>
        </p:nvSpPr>
        <p:spPr>
          <a:xfrm>
            <a:off x="5715000" y="3657600"/>
            <a:ext cx="380880" cy="83808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8" name="Line 11"/>
          <p:cNvSpPr/>
          <p:nvPr/>
        </p:nvSpPr>
        <p:spPr>
          <a:xfrm flipH="1">
            <a:off x="7358040" y="3705120"/>
            <a:ext cx="533520" cy="68580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8380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contains two or more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n assembly, parts are referred to as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s are relationships that align and fit components together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and their assembly are directly related through file link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components affect the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assembly affect the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89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em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range the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window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3" name="Picture 19" descr="SWAssem"/>
          <p:cNvPicPr/>
          <p:nvPr/>
        </p:nvPicPr>
        <p:blipFill>
          <a:blip r:embed="rId1"/>
          <a:stretch/>
        </p:blipFill>
        <p:spPr>
          <a:xfrm>
            <a:off x="2743200" y="1371600"/>
            <a:ext cx="610560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3" descr="SWAssem2"/>
          <p:cNvPicPr/>
          <p:nvPr/>
        </p:nvPicPr>
        <p:blipFill>
          <a:blip r:embed="rId1"/>
          <a:stretch/>
        </p:blipFill>
        <p:spPr>
          <a:xfrm>
            <a:off x="2666880" y="1371600"/>
            <a:ext cx="6115320" cy="487512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67975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2389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ag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op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part icon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o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ave the assembly as Tuto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7" name="Line 12"/>
          <p:cNvSpPr/>
          <p:nvPr/>
        </p:nvSpPr>
        <p:spPr>
          <a:xfrm flipH="1">
            <a:off x="5410080" y="4572000"/>
            <a:ext cx="533520" cy="22860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8" name="Line 13"/>
          <p:cNvSpPr/>
          <p:nvPr/>
        </p:nvSpPr>
        <p:spPr>
          <a:xfrm flipH="1">
            <a:off x="4952880" y="2438280"/>
            <a:ext cx="990720" cy="60984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component placed in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is fix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fixed component cannot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you want to move a fix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, you mus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loat (unfix) it firs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is added to the FeatureManager design tree with the symbol (f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f) indicates a fix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8" descr="AssemFM"/>
          <p:cNvPicPr/>
          <p:nvPr/>
        </p:nvPicPr>
        <p:blipFill>
          <a:blip r:embed="rId1"/>
          <a:stretch/>
        </p:blipFill>
        <p:spPr>
          <a:xfrm>
            <a:off x="6400800" y="1143000"/>
            <a:ext cx="1838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added to the FeatureManager design tree with the symbol (-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-) indicates an underdefin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free to move and rot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4" name="Picture 7" descr="AssemFM"/>
          <p:cNvPicPr/>
          <p:nvPr/>
        </p:nvPicPr>
        <p:blipFill>
          <a:blip r:embed="rId1"/>
          <a:stretch/>
        </p:blipFill>
        <p:spPr>
          <a:xfrm>
            <a:off x="6553080" y="1371600"/>
            <a:ext cx="1838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914400" y="1296720"/>
            <a:ext cx="565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       – translates (moves) the selected component according to 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7" name="Picture 8" descr="icon_move_component"/>
          <p:cNvPicPr/>
          <p:nvPr/>
        </p:nvPicPr>
        <p:blipFill>
          <a:blip r:embed="rId1"/>
          <a:stretch/>
        </p:blipFill>
        <p:spPr>
          <a:xfrm>
            <a:off x="342900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9" descr="Mov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7720" y="1296720"/>
            <a:ext cx="59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        – rotates the selected component according 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1" name="Picture 8" descr="icon_rotate_component"/>
          <p:cNvPicPr/>
          <p:nvPr/>
        </p:nvPicPr>
        <p:blipFill>
          <a:blip r:embed="rId1"/>
          <a:stretch/>
        </p:blipFill>
        <p:spPr>
          <a:xfrm>
            <a:off x="350532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9" descr="Rotat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grees of Freedom: There are Si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y describe how an objec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ranslation (movement) along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4602240" y="1936800"/>
            <a:ext cx="424980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7752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 relationships align and fit together 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fully define it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the top back edge 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the edge of the lip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18" name="Group 18"/>
          <p:cNvGrpSpPr/>
          <p:nvPr/>
        </p:nvGrpSpPr>
        <p:grpSpPr>
          <a:xfrm>
            <a:off x="5176440" y="3962520"/>
            <a:ext cx="3758040" cy="2685960"/>
            <a:chOff x="5176440" y="3962520"/>
            <a:chExt cx="3758040" cy="2685960"/>
          </a:xfrm>
        </p:grpSpPr>
        <p:pic>
          <p:nvPicPr>
            <p:cNvPr id="919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3962520"/>
              <a:ext cx="306720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13"/>
            <p:cNvSpPr/>
            <p:nvPr/>
          </p:nvSpPr>
          <p:spPr>
            <a:xfrm>
              <a:off x="5176440" y="556272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1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1" name="Text Box 14"/>
            <p:cNvSpPr/>
            <p:nvPr/>
          </p:nvSpPr>
          <p:spPr>
            <a:xfrm>
              <a:off x="6395760" y="617220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2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2" name="Text Box 15"/>
            <p:cNvSpPr/>
            <p:nvPr/>
          </p:nvSpPr>
          <p:spPr>
            <a:xfrm>
              <a:off x="7386840" y="3962520"/>
              <a:ext cx="1336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Edg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3" name="Line 16"/>
            <p:cNvSpPr/>
            <p:nvPr/>
          </p:nvSpPr>
          <p:spPr>
            <a:xfrm flipH="1">
              <a:off x="6781320" y="4114800"/>
              <a:ext cx="838440" cy="304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4" name="Line 17"/>
            <p:cNvSpPr/>
            <p:nvPr/>
          </p:nvSpPr>
          <p:spPr>
            <a:xfrm>
              <a:off x="7620120" y="4114800"/>
              <a:ext cx="152280" cy="9907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10800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eatures Used to Build Tutor2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48" name="Picture 4" descr=""/>
          <p:cNvPicPr/>
          <p:nvPr/>
        </p:nvPicPr>
        <p:blipFill>
          <a:blip r:embed="rId1"/>
          <a:stretch/>
        </p:blipFill>
        <p:spPr>
          <a:xfrm>
            <a:off x="122400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2"/>
          <a:stretch/>
        </p:blipFill>
        <p:spPr>
          <a:xfrm>
            <a:off x="562752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8" descr=""/>
          <p:cNvPicPr/>
          <p:nvPr/>
        </p:nvPicPr>
        <p:blipFill>
          <a:blip r:embed="rId3"/>
          <a:stretch/>
        </p:blipFill>
        <p:spPr>
          <a:xfrm>
            <a:off x="1368360" y="3803760"/>
            <a:ext cx="1914480" cy="23558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0" descr=""/>
          <p:cNvPicPr/>
          <p:nvPr/>
        </p:nvPicPr>
        <p:blipFill>
          <a:blip r:embed="rId4"/>
          <a:stretch/>
        </p:blipFill>
        <p:spPr>
          <a:xfrm>
            <a:off x="5638680" y="4305240"/>
            <a:ext cx="2075040" cy="255276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12"/>
          <p:cNvSpPr/>
          <p:nvPr/>
        </p:nvSpPr>
        <p:spPr>
          <a:xfrm>
            <a:off x="1526760" y="11430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1.Base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6173280" y="1143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2.Fille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Text Box 14"/>
          <p:cNvSpPr/>
          <p:nvPr/>
        </p:nvSpPr>
        <p:spPr>
          <a:xfrm>
            <a:off x="1982160" y="4038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3.Shel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Text Box 15"/>
          <p:cNvSpPr/>
          <p:nvPr/>
        </p:nvSpPr>
        <p:spPr>
          <a:xfrm>
            <a:off x="5945040" y="3962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4.Cut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604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ight face of Tutor1 and the right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op face of Tutor1 and the top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7" name="Picture 4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351160" cy="2351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6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8748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37702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mate removes all but two degrees of freedom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s of freedom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ment along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round the edg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1" name="Picture 5" descr=""/>
          <p:cNvPicPr/>
          <p:nvPr/>
        </p:nvPicPr>
        <p:blipFill>
          <a:blip r:embed="rId1"/>
          <a:stretch/>
        </p:blipFill>
        <p:spPr>
          <a:xfrm>
            <a:off x="5168880" y="1297080"/>
            <a:ext cx="3116160" cy="2354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3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95320" cy="76212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16"/>
          <p:cNvSpPr/>
          <p:nvPr/>
        </p:nvSpPr>
        <p:spPr>
          <a:xfrm>
            <a:off x="6351480" y="30481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8013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cond mate removes one more degree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 of freedom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6" name="Picture 5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13560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297080"/>
            <a:ext cx="777744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rd mate removes last degre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 remaining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assembly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9" name="Picture 4" descr=""/>
          <p:cNvPicPr/>
          <p:nvPr/>
        </p:nvPicPr>
        <p:blipFill>
          <a:blip r:embed="rId1"/>
          <a:stretch/>
        </p:blipFill>
        <p:spPr>
          <a:xfrm>
            <a:off x="5680080" y="1297080"/>
            <a:ext cx="2093760" cy="23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5972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quires two fastene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fasten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-fastener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4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88604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801396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-fastener assembly requires three mates to be fully defined. The three mates are:</a:t>
            </a:r>
            <a:br>
              <a:rPr sz="2400"/>
            </a:b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Concentric mat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etween the cylindrical fac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ener and the cylindrical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5798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39243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ircular back face of the fastener and the flat fron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8" name="Picture 4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48040" cy="283536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11"/>
          <p:cNvGrpSpPr/>
          <p:nvPr/>
        </p:nvGrpSpPr>
        <p:grpSpPr>
          <a:xfrm>
            <a:off x="5018760" y="2108160"/>
            <a:ext cx="1839240" cy="1244520"/>
            <a:chOff x="5018760" y="2108160"/>
            <a:chExt cx="1839240" cy="1244520"/>
          </a:xfrm>
        </p:grpSpPr>
        <p:sp>
          <p:nvSpPr>
            <p:cNvPr id="950" name="Text Box 6"/>
            <p:cNvSpPr/>
            <p:nvPr/>
          </p:nvSpPr>
          <p:spPr>
            <a:xfrm>
              <a:off x="5018760" y="21081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1" name="Line 7"/>
            <p:cNvSpPr/>
            <p:nvPr/>
          </p:nvSpPr>
          <p:spPr>
            <a:xfrm>
              <a:off x="6400800" y="2286000"/>
              <a:ext cx="457200" cy="152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2" name="Line 8"/>
            <p:cNvSpPr/>
            <p:nvPr/>
          </p:nvSpPr>
          <p:spPr>
            <a:xfrm flipH="1">
              <a:off x="5867280" y="2286000"/>
              <a:ext cx="533520" cy="10666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3" name="Line 9"/>
            <p:cNvSpPr/>
            <p:nvPr/>
          </p:nvSpPr>
          <p:spPr>
            <a:xfrm flipH="1">
              <a:off x="6019920" y="228600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773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843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Paralle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ut face of the fastener and the flat top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-fasten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is fully define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4944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57" name="Group 12"/>
          <p:cNvGrpSpPr/>
          <p:nvPr/>
        </p:nvGrpSpPr>
        <p:grpSpPr>
          <a:xfrm>
            <a:off x="6294240" y="2308320"/>
            <a:ext cx="2104920" cy="2771280"/>
            <a:chOff x="6294240" y="2308320"/>
            <a:chExt cx="2104920" cy="2771280"/>
          </a:xfrm>
        </p:grpSpPr>
        <p:sp>
          <p:nvSpPr>
            <p:cNvPr id="958" name="Text Box 7"/>
            <p:cNvSpPr/>
            <p:nvPr/>
          </p:nvSpPr>
          <p:spPr>
            <a:xfrm>
              <a:off x="7102080" y="230832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9" name="Line 8"/>
            <p:cNvSpPr/>
            <p:nvPr/>
          </p:nvSpPr>
          <p:spPr>
            <a:xfrm flipH="1">
              <a:off x="6340680" y="2479320"/>
              <a:ext cx="668520" cy="50400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0" name="Line 9"/>
            <p:cNvSpPr/>
            <p:nvPr/>
          </p:nvSpPr>
          <p:spPr>
            <a:xfrm flipH="1">
              <a:off x="6294240" y="2479320"/>
              <a:ext cx="715320" cy="2600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1" name="Line 10"/>
            <p:cNvSpPr/>
            <p:nvPr/>
          </p:nvSpPr>
          <p:spPr>
            <a:xfrm flipH="1">
              <a:off x="7009560" y="2479320"/>
              <a:ext cx="371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714852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-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be fully defined. 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ottom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he storagebox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bottom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4" name="Picture 4" descr=""/>
          <p:cNvPicPr/>
          <p:nvPr/>
        </p:nvPicPr>
        <p:blipFill>
          <a:blip r:embed="rId1"/>
          <a:stretch/>
        </p:blipFill>
        <p:spPr>
          <a:xfrm>
            <a:off x="4602240" y="1711440"/>
            <a:ext cx="4249800" cy="4033800"/>
          </a:xfrm>
          <a:prstGeom prst="rect">
            <a:avLst/>
          </a:prstGeom>
          <a:ln w="0">
            <a:noFill/>
          </a:ln>
        </p:spPr>
      </p:pic>
      <p:grpSp>
        <p:nvGrpSpPr>
          <p:cNvPr id="965" name="Group 11"/>
          <p:cNvGrpSpPr/>
          <p:nvPr/>
        </p:nvGrpSpPr>
        <p:grpSpPr>
          <a:xfrm>
            <a:off x="4339800" y="4648320"/>
            <a:ext cx="3660840" cy="609120"/>
            <a:chOff x="4339800" y="4648320"/>
            <a:chExt cx="3660840" cy="609120"/>
          </a:xfrm>
        </p:grpSpPr>
        <p:sp>
          <p:nvSpPr>
            <p:cNvPr id="966" name="Text Box 7"/>
            <p:cNvSpPr/>
            <p:nvPr/>
          </p:nvSpPr>
          <p:spPr>
            <a:xfrm>
              <a:off x="4339800" y="48988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 flipV="1">
              <a:off x="5766840" y="4648320"/>
              <a:ext cx="850320" cy="3715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5781240" y="5015520"/>
              <a:ext cx="2219400" cy="241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9" name="Line 10"/>
            <p:cNvSpPr/>
            <p:nvPr/>
          </p:nvSpPr>
          <p:spPr>
            <a:xfrm flipH="1">
              <a:off x="5391360" y="5012280"/>
              <a:ext cx="3931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ack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x and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ack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72" name="Picture 4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83080" cy="3544920"/>
          </a:xfrm>
          <a:prstGeom prst="rect">
            <a:avLst/>
          </a:prstGeom>
          <a:ln w="0">
            <a:noFill/>
          </a:ln>
        </p:spPr>
      </p:pic>
      <p:grpSp>
        <p:nvGrpSpPr>
          <p:cNvPr id="973" name="Group 13"/>
          <p:cNvGrpSpPr/>
          <p:nvPr/>
        </p:nvGrpSpPr>
        <p:grpSpPr>
          <a:xfrm>
            <a:off x="4466520" y="2158920"/>
            <a:ext cx="4285440" cy="2564280"/>
            <a:chOff x="4466520" y="2158920"/>
            <a:chExt cx="4285440" cy="2564280"/>
          </a:xfrm>
        </p:grpSpPr>
        <p:sp>
          <p:nvSpPr>
            <p:cNvPr id="974" name="Text Box 7"/>
            <p:cNvSpPr/>
            <p:nvPr/>
          </p:nvSpPr>
          <p:spPr>
            <a:xfrm>
              <a:off x="4466520" y="43689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8"/>
            <p:cNvSpPr/>
            <p:nvPr/>
          </p:nvSpPr>
          <p:spPr>
            <a:xfrm flipV="1">
              <a:off x="5856480" y="2920680"/>
              <a:ext cx="1128600" cy="16318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6" name="Line 9"/>
            <p:cNvSpPr/>
            <p:nvPr/>
          </p:nvSpPr>
          <p:spPr>
            <a:xfrm flipV="1">
              <a:off x="5870520" y="3682800"/>
              <a:ext cx="2881440" cy="8636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7" name="Line 10"/>
            <p:cNvSpPr/>
            <p:nvPr/>
          </p:nvSpPr>
          <p:spPr>
            <a:xfrm flipH="1">
              <a:off x="5492880" y="454176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5151960" y="2158920"/>
              <a:ext cx="2415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Inside back face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Sketch for Cut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14040" y="12193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composed of two curv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vert Entities creates the out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fset Entities creates the in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ther than drawing the outlines by hand, they are “copied”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 and easy– select the face and click the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ccurate – sketch entities are “cloned” directly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elligent – if the solid body changes shape, the sketch updates. Automatic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0" name="Picture 4" descr=""/>
          <p:cNvPicPr/>
          <p:nvPr/>
        </p:nvPicPr>
        <p:blipFill>
          <a:blip r:embed="rId1"/>
          <a:stretch/>
        </p:blipFill>
        <p:spPr>
          <a:xfrm>
            <a:off x="4602240" y="1698480"/>
            <a:ext cx="424980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Group 13"/>
          <p:cNvGrpSpPr/>
          <p:nvPr/>
        </p:nvGrpSpPr>
        <p:grpSpPr>
          <a:xfrm>
            <a:off x="4187160" y="3505320"/>
            <a:ext cx="1832760" cy="1573200"/>
            <a:chOff x="4187160" y="3505320"/>
            <a:chExt cx="1832760" cy="1573200"/>
          </a:xfrm>
        </p:grpSpPr>
        <p:sp>
          <p:nvSpPr>
            <p:cNvPr id="982" name="Text Box 7"/>
            <p:cNvSpPr/>
            <p:nvPr/>
          </p:nvSpPr>
          <p:spPr>
            <a:xfrm>
              <a:off x="4187160" y="47242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3" name="Line 10"/>
            <p:cNvSpPr/>
            <p:nvPr/>
          </p:nvSpPr>
          <p:spPr>
            <a:xfrm flipH="1">
              <a:off x="5213520" y="489744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4" name="Line 11"/>
            <p:cNvSpPr/>
            <p:nvPr/>
          </p:nvSpPr>
          <p:spPr>
            <a:xfrm flipH="1" flipV="1">
              <a:off x="5105160" y="3505320"/>
              <a:ext cx="471240" cy="1403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5" name="Line 12"/>
            <p:cNvSpPr/>
            <p:nvPr/>
          </p:nvSpPr>
          <p:spPr>
            <a:xfrm flipV="1">
              <a:off x="5591160" y="3809880"/>
              <a:ext cx="428760" cy="10922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mate between the inside lef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lef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= 1c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Good job! Now,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ould you like to d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24 more times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!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mponent Patter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4" descr=""/>
          <p:cNvPicPr/>
          <p:nvPr/>
        </p:nvPicPr>
        <p:blipFill>
          <a:blip r:embed="rId1"/>
          <a:stretch/>
        </p:blipFill>
        <p:spPr>
          <a:xfrm>
            <a:off x="5156280" y="1438200"/>
            <a:ext cx="3695760" cy="312732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76993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Component pattern is  a pattern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omponent patter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the Se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ed Compon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this example is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eliminates the work of adding and mating each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a Linear Component Pattern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943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Assembly &gt; Linear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as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s to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front edge of the </a:t>
            </a:r>
            <a:br>
              <a:rPr sz="2400"/>
            </a:b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storagebox 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for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Pattern Directio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pacing = 1cm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Instances = 25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2" name="Picture 11" descr="LinearPatternPM"/>
          <p:cNvPicPr/>
          <p:nvPr/>
        </p:nvPicPr>
        <p:blipFill>
          <a:blip r:embed="rId1"/>
          <a:stretch/>
        </p:blipFill>
        <p:spPr>
          <a:xfrm>
            <a:off x="6324480" y="1371600"/>
            <a:ext cx="1828800" cy="37720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43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ore to Explore: The Hole Wizard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5583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determines the size of the hole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ize of the fastene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sired amount of clearance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Normal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Cl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Lo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6" name="Picture 10" descr="hol_wiz"/>
          <p:cNvPicPr/>
          <p:nvPr/>
        </p:nvPicPr>
        <p:blipFill>
          <a:blip r:embed="rId1"/>
          <a:stretch/>
        </p:blipFill>
        <p:spPr>
          <a:xfrm>
            <a:off x="5943600" y="1219320"/>
            <a:ext cx="18288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nvert Entiti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one or more curves into the active sketch by projecting them onto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ves can b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dges of fac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in other sketch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sy and f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he Convert Entities      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0" name="Picture 6" descr="icon_convert_entities"/>
          <p:cNvPicPr/>
          <p:nvPr/>
        </p:nvPicPr>
        <p:blipFill>
          <a:blip r:embed="rId1"/>
          <a:stretch/>
        </p:blipFill>
        <p:spPr>
          <a:xfrm>
            <a:off x="4648320" y="388620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6" descr="PICT0032"/>
          <p:cNvPicPr/>
          <p:nvPr/>
        </p:nvPicPr>
        <p:blipFill>
          <a:blip r:embed="rId1"/>
          <a:stretch/>
        </p:blipFill>
        <p:spPr>
          <a:xfrm>
            <a:off x="5638680" y="1370160"/>
            <a:ext cx="3254400" cy="384480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1"/>
          <p:cNvSpPr/>
          <p:nvPr/>
        </p:nvSpPr>
        <p:spPr>
          <a:xfrm>
            <a:off x="5791320" y="3200400"/>
            <a:ext cx="228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s you wa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convert. In this case, selec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nvert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5" name="Picture 8" descr="icon_convert_entities"/>
          <p:cNvPicPr/>
          <p:nvPr/>
        </p:nvPicPr>
        <p:blipFill>
          <a:blip r:embed="rId2"/>
          <a:stretch/>
        </p:blipFill>
        <p:spPr>
          <a:xfrm>
            <a:off x="2362320" y="33526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0" descr="FACE"/>
          <p:cNvPicPr/>
          <p:nvPr/>
        </p:nvPicPr>
        <p:blipFill>
          <a:blip r:embed="rId3"/>
          <a:stretch/>
        </p:blipFill>
        <p:spPr>
          <a:xfrm>
            <a:off x="5715000" y="3200400"/>
            <a:ext cx="32400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utside edges of face are copied into the active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fully defined – no dimensions need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9" name="Picture 4" descr=""/>
          <p:cNvPicPr/>
          <p:nvPr/>
        </p:nvPicPr>
        <p:blipFill>
          <a:blip r:embed="rId1"/>
          <a:stretch/>
        </p:blipFill>
        <p:spPr>
          <a:xfrm>
            <a:off x="4689360" y="2895480"/>
            <a:ext cx="2735280" cy="32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067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Offset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    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PropertyManager ope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er the distance value of 2m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one of the convert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lect chain option caus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offset to go all the wa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ound the contou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2" name="Picture 10" descr="icon_offset_entities"/>
          <p:cNvPicPr/>
          <p:nvPr/>
        </p:nvPicPr>
        <p:blipFill>
          <a:blip r:embed="rId1"/>
          <a:stretch/>
        </p:blipFill>
        <p:spPr>
          <a:xfrm>
            <a:off x="4745160" y="13716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3" descr="OffsetEntities"/>
          <p:cNvPicPr/>
          <p:nvPr/>
        </p:nvPicPr>
        <p:blipFill>
          <a:blip r:embed="rId2"/>
          <a:stretch/>
        </p:blipFill>
        <p:spPr>
          <a:xfrm>
            <a:off x="6477120" y="1523880"/>
            <a:ext cx="18381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5867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stem generates a preview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he resulting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small         arrow  points towar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ursor. If you move you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sor to the other sid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line        , the arrow chang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rection. This indicates on which side the offset will be crea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the cursor so it is inside the contour. Click the left mouse button to create the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1986120" cy="23544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"/>
          <p:cNvPicPr/>
          <p:nvPr/>
        </p:nvPicPr>
        <p:blipFill>
          <a:blip r:embed="rId2"/>
          <a:stretch/>
        </p:blipFill>
        <p:spPr>
          <a:xfrm>
            <a:off x="2492280" y="1981080"/>
            <a:ext cx="403200" cy="23040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  <p:pic>
        <p:nvPicPr>
          <p:cNvPr id="878" name="Picture 8" descr=""/>
          <p:cNvPicPr/>
          <p:nvPr/>
        </p:nvPicPr>
        <p:blipFill>
          <a:blip r:embed="rId3"/>
          <a:stretch/>
        </p:blipFill>
        <p:spPr>
          <a:xfrm>
            <a:off x="2057400" y="2895480"/>
            <a:ext cx="390600" cy="24768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31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sulting sketch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re is only one dimension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controls the offset distan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1" name="Picture 6" descr=""/>
          <p:cNvPicPr/>
          <p:nvPr/>
        </p:nvPicPr>
        <p:blipFill>
          <a:blip r:embed="rId1"/>
          <a:stretch/>
        </p:blipFill>
        <p:spPr>
          <a:xfrm>
            <a:off x="5403960" y="1724040"/>
            <a:ext cx="2646360" cy="40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4-01-13T20:29:58Z</dcterms:modified>
  <cp:revision>74</cp:revision>
  <dc:subject/>
  <dc:title>Presentation Title</dc:title>
</cp:coreProperties>
</file>